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928" b="82720"/>
          <a:stretch/>
        </p:blipFill>
        <p:spPr>
          <a:xfrm>
            <a:off x="0" y="0"/>
            <a:ext cx="9144000" cy="115740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114480" y="0"/>
            <a:ext cx="9753840" cy="685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74680" y="0"/>
            <a:ext cx="9282240" cy="685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42191" b="0"/>
          <a:stretch/>
        </p:blipFill>
        <p:spPr>
          <a:xfrm>
            <a:off x="0" y="19080"/>
            <a:ext cx="5443560" cy="6838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45280" y="196920"/>
            <a:ext cx="1773360" cy="169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81480" y="4808520"/>
            <a:ext cx="4443480" cy="641520"/>
          </a:xfrm>
          <a:prstGeom prst="rect">
            <a:avLst/>
          </a:prstGeom>
          <a:noFill/>
          <a:ln w="0">
            <a:noFill/>
          </a:ln>
          <a:effectLst>
            <a:outerShdw dist="40186" dir="97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6240" y="2127240"/>
            <a:ext cx="484524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rente Parlamentar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mbientalista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2800440" y="5338800"/>
            <a:ext cx="6343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duardo Bandeira de M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hefe do Departamento de 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sília, 8 de novembro d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674800"/>
            <a:ext cx="91440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84480" y="4127400"/>
            <a:ext cx="51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danças Climáticas: Consumo e Produção Sustentável de Eletricidade no Bras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552600"/>
            <a:ext cx="56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Política Ambiental do BN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19120"/>
            <a:ext cx="914400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procedimentos internos de análise ambiental de projetos e avaliação de ris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unidade organizacional responsável pelo Meio Ambi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o GT  Meio Ambi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outras ações interna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9200" y="0"/>
            <a:ext cx="465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552600"/>
            <a:ext cx="56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Política Ambiental do BN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222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LINHAS DE SUPORTE FINANC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Linhas tradicionais – modern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Linhas especia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89200" y="0"/>
            <a:ext cx="465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552600"/>
            <a:ext cx="56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Política Ambiental do BN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312920"/>
            <a:ext cx="914400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LINHAS DE SUPORTE FINANC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EXPANSÃO DA PRODUÇÃO BRASILEIRA DE ÁLCOOL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7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apoio tradicional ao plantio e às plantas industr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7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melhores condições para projetos que incluam maior produção de energia elétrica excedente a partir da cogeração a bagaço de c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7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Apoio a projetos de reflorestamento de Áreas de Reserva Legal e Áreas de Preservação Perma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89200" y="0"/>
            <a:ext cx="465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552600"/>
            <a:ext cx="56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Política Ambiental do BN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617840"/>
            <a:ext cx="914400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LINHAS DE SUPORTE FINANC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Apoio a projetos ambientais - saneamento ambiental, controle e prevenção de poluição, cadeias de reciclagem, reflorestamento, energias renováve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Apoio a projetos de M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Eficiência energética – PROE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89200" y="0"/>
            <a:ext cx="465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1625760"/>
            <a:ext cx="7696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marL="388800" indent="-388800">
              <a:lnSpc>
                <a:spcPct val="120000"/>
              </a:lnSpc>
              <a:spcAft>
                <a:spcPts val="249"/>
              </a:spcAft>
              <a:buClr>
                <a:srgbClr val="276d36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000" spc="-1" strike="noStrike">
                <a:solidFill>
                  <a:srgbClr val="2a1f79"/>
                </a:solidFill>
                <a:latin typeface="Arial Unicode MS"/>
              </a:rPr>
              <a:t>Evita desperdí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buClr>
                <a:srgbClr val="276d36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000" spc="-1" strike="noStrike">
                <a:solidFill>
                  <a:srgbClr val="2a1f79"/>
                </a:solidFill>
                <a:latin typeface="Arial Unicode MS"/>
              </a:rPr>
              <a:t>Promove equipamentos mais 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buClr>
                <a:srgbClr val="276d36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000" spc="-1" strike="noStrike">
                <a:solidFill>
                  <a:srgbClr val="2a1f79"/>
                </a:solidFill>
                <a:latin typeface="Arial Unicode MS"/>
              </a:rPr>
              <a:t>Melhora os processos indust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buClr>
                <a:srgbClr val="276d36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000" spc="-1" strike="noStrike">
                <a:solidFill>
                  <a:srgbClr val="2a1f79"/>
                </a:solidFill>
                <a:latin typeface="Arial Unicode MS"/>
              </a:rPr>
              <a:t>Aumenta a competitividade d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buClr>
                <a:srgbClr val="276d36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000" spc="-1" strike="noStrike">
                <a:solidFill>
                  <a:srgbClr val="2a1f79"/>
                </a:solidFill>
                <a:latin typeface="Arial Unicode MS"/>
              </a:rPr>
              <a:t>Posterga investimentos em g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buClr>
                <a:srgbClr val="276d36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000" spc="-1" strike="noStrike">
                <a:solidFill>
                  <a:srgbClr val="2a1f79"/>
                </a:solidFill>
                <a:latin typeface="Arial Unicode MS"/>
              </a:rPr>
              <a:t>É mais barato que expandir 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249"/>
              </a:spcAft>
              <a:buClr>
                <a:srgbClr val="276d36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000" spc="-1" strike="noStrike">
                <a:solidFill>
                  <a:srgbClr val="2a1f79"/>
                </a:solidFill>
                <a:latin typeface="Arial Unicode MS"/>
              </a:rPr>
              <a:t>Beneficia o Me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2320" y="585720"/>
            <a:ext cx="782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G Omega"/>
              </a:rPr>
              <a:t>VANTAGENS DA EFICIÊNCIA ENERGÉ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1384200"/>
            <a:ext cx="79246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3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Anos 80 – Principal agente do CON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13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Anos 80/90 – PROEN – Programa de Racionalização Energét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13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Anos 90 – GT para incluir na análise e acompanhamento dos projetos a variável Eficiência Energét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13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Anos 90 – Inclui o financiamento de investimentos em Eficiência Energética em todos os programas do Banc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13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2000 – Amplia o PMAT para eficientização de prédios e iluminação públic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13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2002 a 2006 – Participa do Developing Financial Intermediation Mechanism for Energy Efficiency Projects in Brazil, China and India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13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1f79"/>
                </a:solidFill>
                <a:latin typeface="Arial Unicode MS"/>
              </a:rPr>
              <a:t>2006 </a:t>
            </a:r>
            <a:r>
              <a:rPr b="1" lang="en-US" sz="18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2a1f79"/>
                </a:solidFill>
                <a:latin typeface="Arial Unicode MS"/>
              </a:rPr>
              <a:t> Cria o PROES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5880" y="561960"/>
            <a:ext cx="73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G Omega"/>
              </a:rPr>
              <a:t>EFICIÊNCIA ENERGÉTICA NO B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1871640"/>
            <a:ext cx="792504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marL="388800" indent="-388800">
              <a:lnSpc>
                <a:spcPct val="190000"/>
              </a:lnSpc>
              <a:spcAft>
                <a:spcPts val="24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000" spc="-1" strike="noStrike" u="sng">
                <a:solidFill>
                  <a:srgbClr val="2a1f79"/>
                </a:solidFill>
                <a:uFillTx/>
                <a:latin typeface="Arial Unicode MS"/>
                <a:ea typeface="Times New Roman"/>
              </a:rPr>
              <a:t>FINAME</a:t>
            </a:r>
            <a:r>
              <a:rPr b="1" lang="pt-BR" sz="20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 – </a:t>
            </a:r>
            <a:r>
              <a:rPr b="1" lang="pt-BR" sz="2000" spc="-1" strike="noStrike">
                <a:solidFill>
                  <a:srgbClr val="2a1f79"/>
                </a:solidFill>
                <a:latin typeface="Arial Unicode MS"/>
              </a:rPr>
              <a:t>Aquisição de Máquinas e Equipa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90000"/>
              </a:lnSpc>
              <a:spcAft>
                <a:spcPts val="1001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000" spc="-1" strike="noStrike" u="sng">
                <a:solidFill>
                  <a:srgbClr val="2a1f79"/>
                </a:solidFill>
                <a:uFillTx/>
                <a:latin typeface="Arial Unicode MS"/>
                <a:ea typeface="Times New Roman"/>
              </a:rPr>
              <a:t>Cartão BNDES</a:t>
            </a:r>
            <a:r>
              <a:rPr b="1" lang="pt-BR" sz="20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 – </a:t>
            </a:r>
            <a:r>
              <a:rPr b="1" lang="pt-BR" sz="2000" spc="-1" strike="noStrike">
                <a:solidFill>
                  <a:srgbClr val="2a1f79"/>
                </a:solidFill>
                <a:latin typeface="Arial Unicode MS"/>
              </a:rPr>
              <a:t>Aquisição de Ativos pelas MP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90000"/>
              </a:lnSpc>
              <a:spcAft>
                <a:spcPts val="1001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000" spc="-1" strike="noStrike" u="sng">
                <a:solidFill>
                  <a:srgbClr val="2a1f79"/>
                </a:solidFill>
                <a:uFillTx/>
                <a:latin typeface="Arial Unicode MS"/>
                <a:ea typeface="Times New Roman"/>
              </a:rPr>
              <a:t>BNDES Automático</a:t>
            </a:r>
            <a:r>
              <a:rPr b="1" lang="pt-BR" sz="20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 – projetos &lt; ou = R$ 10 milh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90000"/>
              </a:lnSpc>
              <a:spcAft>
                <a:spcPts val="1001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000" spc="-1" strike="noStrike" u="sng">
                <a:solidFill>
                  <a:srgbClr val="2a1f79"/>
                </a:solidFill>
                <a:uFillTx/>
                <a:latin typeface="Arial Unicode MS"/>
                <a:ea typeface="Times New Roman"/>
              </a:rPr>
              <a:t>FINEM</a:t>
            </a:r>
            <a:r>
              <a:rPr b="1" lang="pt-BR" sz="20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 – projetos &gt; R$ 10 milh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90000"/>
              </a:lnSpc>
              <a:spcAft>
                <a:spcPts val="1001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000" spc="-1" strike="noStrike" u="sng">
                <a:solidFill>
                  <a:srgbClr val="2a1f79"/>
                </a:solidFill>
                <a:uFillTx/>
                <a:latin typeface="Arial Unicode MS"/>
                <a:ea typeface="Times New Roman"/>
              </a:rPr>
              <a:t>PMAT</a:t>
            </a:r>
            <a:r>
              <a:rPr b="1" lang="pt-BR" sz="20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 – Iluminação Pública, Prédio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90000"/>
              </a:lnSpc>
              <a:spcAft>
                <a:spcPts val="1001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000" spc="-1" strike="noStrike" u="sng">
                <a:solidFill>
                  <a:srgbClr val="2a1f79"/>
                </a:solidFill>
                <a:uFillTx/>
                <a:latin typeface="Arial Unicode MS"/>
                <a:ea typeface="Times New Roman"/>
              </a:rPr>
              <a:t>Participação Societária</a:t>
            </a:r>
            <a:r>
              <a:rPr b="1" lang="pt-BR" sz="2000" spc="-1" strike="noStrike">
                <a:solidFill>
                  <a:srgbClr val="2a1f79"/>
                </a:solidFill>
                <a:latin typeface="Arial Unicode MS"/>
                <a:ea typeface="Times New Roman"/>
              </a:rPr>
              <a:t> – Empresas Inov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90000"/>
              </a:lnSpc>
              <a:spcAft>
                <a:spcPts val="119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400" spc="-1" strike="noStrike">
                <a:solidFill>
                  <a:srgbClr val="2a1f79"/>
                </a:solidFill>
                <a:latin typeface="Arial Unicode MS"/>
              </a:rPr>
              <a:t>FINANCIAMENTO AO USUÁ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90000"/>
              </a:lnSpc>
              <a:spcAft>
                <a:spcPts val="119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17280" y="561960"/>
            <a:ext cx="72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G Omega"/>
              </a:rPr>
              <a:t>LINHAS DE CRÉD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G Omega"/>
              </a:rPr>
              <a:t>PARA CONSUMIDOR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75920" y="365040"/>
            <a:ext cx="3606480" cy="4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Eficiência Energét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800" y="1360440"/>
            <a:ext cx="822960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marL="388800" indent="-38880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Barreiras para projetos de eficiência energé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30000"/>
              </a:lnSpc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Pequena expressão das despesas com energia em relação aos custos totais nas empresas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30000"/>
              </a:lnSpc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Precária avaliação técnica e financeira das economias potenciais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30000"/>
              </a:lnSpc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Falta de informação sobre tecnologias mais eficientes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30000"/>
              </a:lnSpc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Indisponibilidade de linhas de crédito adequadas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25480" y="388800"/>
            <a:ext cx="5794920" cy="4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Arial"/>
              </a:rPr>
              <a:t>Possibilidades de apoio às ESC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2480" y="1425600"/>
            <a:ext cx="8561520" cy="48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marL="388800" indent="-388800" algn="ctr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90000"/>
              </a:lnSpc>
              <a:spcAft>
                <a:spcPts val="1199"/>
              </a:spcAft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Dificuldades para a participação do BN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85000"/>
              <a:buFont typeface="Wingdings" charset="2"/>
              <a:buChar char="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Pequeno porte dos pro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85000"/>
              <a:buFont typeface="Wingdings" charset="2"/>
              <a:buChar char="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Desconhecimento e pouco interesse de agentes financei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85000"/>
              <a:buFont typeface="Wingdings" charset="2"/>
              <a:buChar char="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Pequeno número e porte das E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Aft>
                <a:spcPts val="1349"/>
              </a:spcAft>
              <a:buClr>
                <a:srgbClr val="ffff00"/>
              </a:buClr>
              <a:buSzPct val="85000"/>
              <a:buFont typeface="Wingdings" charset="2"/>
              <a:buChar char="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2700" spc="-1" strike="noStrike" u="sng">
                <a:solidFill>
                  <a:srgbClr val="006600"/>
                </a:solidFill>
                <a:uFillTx/>
                <a:latin typeface="Arial"/>
              </a:rPr>
              <a:t>Estrutura de garant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80000"/>
              </a:lnSpc>
              <a:spcAft>
                <a:spcPts val="134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80000"/>
              </a:lnSpc>
              <a:spcAft>
                <a:spcPts val="1176"/>
              </a:spcAft>
              <a:buClr>
                <a:srgbClr val="ff9933"/>
              </a:buClr>
              <a:buSzPct val="85000"/>
              <a:buFont typeface="Wingdings" charset="2"/>
              <a:buChar char="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1957320"/>
            <a:ext cx="792468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marL="388800" indent="-388800" algn="ctr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ctr"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pt-BR" sz="7200" spc="-1" strike="noStrike">
                <a:solidFill>
                  <a:srgbClr val="2a1f79"/>
                </a:solidFill>
                <a:latin typeface="Arial Unicode MS"/>
              </a:rPr>
              <a:t>PROESC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2a1f79"/>
                </a:solidFill>
                <a:latin typeface="Arial Unicode MS"/>
              </a:rPr>
              <a:t>Apoio a Projetos de Eficiência Energé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1200" y="561960"/>
            <a:ext cx="678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G Omega"/>
              </a:rPr>
              <a:t>LINHAS DE CRÉDITO PARA E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G Omega"/>
              </a:rPr>
              <a:t>E CONSUMIDOR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14480" y="0"/>
            <a:ext cx="9753840" cy="685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677520" cy="685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42191" b="0"/>
          <a:stretch/>
        </p:blipFill>
        <p:spPr>
          <a:xfrm>
            <a:off x="0" y="19080"/>
            <a:ext cx="5411880" cy="683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923240" y="181080"/>
            <a:ext cx="1539720" cy="147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1480" y="4808520"/>
            <a:ext cx="4443480" cy="641520"/>
          </a:xfrm>
          <a:prstGeom prst="rect">
            <a:avLst/>
          </a:prstGeom>
          <a:noFill/>
          <a:ln w="0">
            <a:noFill/>
          </a:ln>
          <a:effectLst>
            <a:outerShdw dist="40186" dir="97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74800"/>
            <a:ext cx="91440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6640" y="590400"/>
            <a:ext cx="320040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Arial"/>
              </a:rPr>
              <a:t>SUMÁ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1668600"/>
            <a:ext cx="51976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Desenvolvimento e Meio Ambi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Política Ambiental do B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 BNDES e a Eficiência Energ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 PROE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41720" y="1530360"/>
            <a:ext cx="68259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30000"/>
              </a:lnSpc>
              <a:buClr>
                <a:srgbClr val="276d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a1f79"/>
                </a:solidFill>
                <a:latin typeface="Arial Unicode MS"/>
              </a:rPr>
              <a:t>Financia obras (incluídos estudos) e equipamen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buClr>
                <a:srgbClr val="276d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a1f79"/>
                </a:solidFill>
                <a:latin typeface="Arial Unicode MS"/>
              </a:rPr>
              <a:t>Financiados podem ser as ESCOs ou seus Clie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buClr>
                <a:srgbClr val="276d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a1f79"/>
                </a:solidFill>
                <a:latin typeface="Arial Unicode MS"/>
              </a:rPr>
              <a:t>Prazo de até 6 anos, incluída a carência de a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a1f79"/>
                </a:solidFill>
                <a:latin typeface="Arial Unicode MS"/>
              </a:rPr>
              <a:t>	</a:t>
            </a:r>
            <a:r>
              <a:rPr b="1" lang="pt-BR" sz="2000" spc="-1" strike="noStrike">
                <a:solidFill>
                  <a:srgbClr val="2a1f79"/>
                </a:solidFill>
                <a:latin typeface="Arial Unicode MS"/>
              </a:rPr>
              <a:t>2 an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buClr>
                <a:srgbClr val="276d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a1f79"/>
                </a:solidFill>
                <a:latin typeface="Arial Unicode MS"/>
              </a:rPr>
              <a:t>Custo máximo de TJLP + 5% ao an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buClr>
                <a:srgbClr val="276d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a1f79"/>
                </a:solidFill>
                <a:latin typeface="Arial Unicode MS"/>
              </a:rPr>
              <a:t>Contrato de Performance pode ser a garantia em financiamento à ES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8320" y="5126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G Omega"/>
              </a:rPr>
              <a:t>PROE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60020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3480" y="1371600"/>
            <a:ext cx="274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8320" y="5126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G Omega"/>
              </a:rPr>
              <a:t>PROE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530360"/>
            <a:ext cx="754380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a1f79"/>
                </a:solidFill>
                <a:uFillTx/>
                <a:latin typeface="Arial Unicode MS"/>
              </a:rPr>
              <a:t>MODAL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30000"/>
              </a:lnSpc>
              <a:buClr>
                <a:srgbClr val="276d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a1f79"/>
                </a:solidFill>
                <a:latin typeface="Arial Unicode MS"/>
              </a:rPr>
              <a:t>OPERAÇÃO DIRETA: PROJETOS COM RISCO TOTAL DO BNDES – operações acima de R$ 10 milhõ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30000"/>
              </a:lnSpc>
              <a:buClr>
                <a:srgbClr val="276d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30000"/>
              </a:lnSpc>
              <a:buClr>
                <a:srgbClr val="276d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a1f79"/>
                </a:solidFill>
                <a:latin typeface="Arial Unicode MS"/>
              </a:rPr>
              <a:t>OPERAÇÃO INDIRETA: PROJETOS COM RISCO TOTAL DO AGENTE FINANCEI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 algn="just">
              <a:lnSpc>
                <a:spcPct val="130000"/>
              </a:lnSpc>
              <a:buClr>
                <a:srgbClr val="276d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buClr>
                <a:srgbClr val="276d3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a1f79"/>
                </a:solidFill>
                <a:latin typeface="Arial Unicode MS"/>
              </a:rPr>
              <a:t>RISCO COMPARTILHADO: BNDES E O AGENTE FINANCEIRO MANDATÁRIO ASSUMEM O RISCO DO PROJETO; PARTICIPAÇÃO DO BNDES LIMITADA A 80%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60020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1752480"/>
          <a:ext cx="8839440" cy="487692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752840"/>
                <a:gridCol w="1676160"/>
                <a:gridCol w="1981440"/>
              </a:tblGrid>
              <a:tr h="15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Financi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Custo Financeiro A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Particip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Pr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Garant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E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TJ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Spread de Ris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(até 1,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té 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invest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Total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té 6 a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Carência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té 2 a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 defin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Consumi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194640" y="12952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1f79"/>
                </a:solidFill>
                <a:latin typeface="Arial Unicode MS"/>
              </a:rPr>
              <a:t>OPERAÇÃO DI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8320" y="5126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G Omega"/>
              </a:rPr>
              <a:t>PROE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280" y="1752480"/>
          <a:ext cx="8839440" cy="487692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752840"/>
                <a:gridCol w="1676160"/>
                <a:gridCol w="1981440"/>
              </a:tblGrid>
              <a:tr h="15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Financi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Custo Financeiro A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Particip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Pr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Garant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E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TJ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Spread do Agente Financei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(até 4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té 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invest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Total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té 6 a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Carência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té 2 a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 critério do Agente 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Consumi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011040" y="129528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1f79"/>
                </a:solidFill>
                <a:latin typeface="Arial Unicode MS"/>
              </a:rPr>
              <a:t>OPERAÇÃO INDI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8320" y="5126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G Omega"/>
              </a:rPr>
              <a:t>PROE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160020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752480"/>
          <a:ext cx="8839440" cy="4286520"/>
        </p:xfrm>
        <a:graphic>
          <a:graphicData uri="http://schemas.openxmlformats.org/drawingml/2006/table">
            <a:tbl>
              <a:tblPr/>
              <a:tblGrid>
                <a:gridCol w="1524240"/>
                <a:gridCol w="1447560"/>
                <a:gridCol w="1752840"/>
                <a:gridCol w="1447560"/>
                <a:gridCol w="1447920"/>
                <a:gridCol w="1219320"/>
              </a:tblGrid>
              <a:tr h="166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Financi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Custo Financeiro A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Particip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Pr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Garant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R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ES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TJ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1% B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1% Ban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3% R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té 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invest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Total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té 6 a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Carência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té 2 a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Direi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creditó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BN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s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1f79"/>
                          </a:solidFill>
                          <a:latin typeface="Arial Unicode MS"/>
                        </a:rPr>
                        <a:t>Até 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288320" y="51264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G Omega"/>
              </a:rPr>
              <a:t>PROE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65520" y="12952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1f79"/>
                </a:solidFill>
                <a:latin typeface="Arial Unicode MS"/>
              </a:rPr>
              <a:t>RISCO COMPARTIL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51444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09184" dir="327169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Verdana"/>
              </a:rPr>
              <a:t>OBRIGADO</a:t>
            </a:r>
            <a:r>
              <a:rPr b="1" lang="en-US" sz="8800" spc="-1" strike="noStrike">
                <a:solidFill>
                  <a:srgbClr val="006600"/>
                </a:solidFill>
                <a:latin typeface="Verdana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32160" y="2090880"/>
            <a:ext cx="2530440" cy="2423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53150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00"/>
                </a:solidFill>
                <a:latin typeface="Arial"/>
              </a:rPr>
              <a:t>Eduardo Bandeira de M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l.: (21) 2172-7354        e-mail: emello@bndes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61480" y="552600"/>
            <a:ext cx="682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Desenvolvimento e Meio Ambi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76200"/>
            <a:ext cx="9144000" cy="53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285840">
              <a:lnSpc>
                <a:spcPct val="11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INSERÇÃO DA QUESTÃO AMBIENTAL NA  PROMOÇÃO DO DES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>
              <a:lnSpc>
                <a:spcPct val="11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Biodiversidade e Biotecnolog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>
              <a:lnSpc>
                <a:spcPct val="11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Ecoeficiência e Produção Mais Li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>
              <a:lnSpc>
                <a:spcPct val="11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Desenvolvimento regional sustentáv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>
              <a:lnSpc>
                <a:spcPct val="11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Energias renováve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>
              <a:lnSpc>
                <a:spcPct val="11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Eficiência energé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61480" y="552600"/>
            <a:ext cx="682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Desenvolvimento e Meio Ambi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400" y="1368360"/>
            <a:ext cx="8896320" cy="55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VISIBILIDADE DA MELHOR RELAÇÃO COM O MEIO AMBI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251"/>
              </a:spcBef>
              <a:spcAft>
                <a:spcPts val="18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Times New Roman"/>
              </a:rPr>
              <a:t>Comércio exteri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251"/>
              </a:spcBef>
              <a:spcAft>
                <a:spcPts val="18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Times New Roman"/>
              </a:rPr>
              <a:t>Política exter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251"/>
              </a:spcBef>
              <a:spcAft>
                <a:spcPts val="18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Times New Roman"/>
              </a:rPr>
              <a:t>Entrada de recursos internacionais – créditos de carbono e serviços ambient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14480" y="0"/>
            <a:ext cx="9753840" cy="685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677520" cy="685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42191" b="0"/>
          <a:stretch/>
        </p:blipFill>
        <p:spPr>
          <a:xfrm>
            <a:off x="0" y="19080"/>
            <a:ext cx="5411880" cy="683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23240" y="181080"/>
            <a:ext cx="1539720" cy="147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81480" y="4808520"/>
            <a:ext cx="4443480" cy="641520"/>
          </a:xfrm>
          <a:prstGeom prst="rect">
            <a:avLst/>
          </a:prstGeom>
          <a:noFill/>
          <a:ln w="0">
            <a:noFill/>
          </a:ln>
          <a:effectLst>
            <a:outerShdw dist="40186" dir="97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74800"/>
            <a:ext cx="91440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89280" y="1927080"/>
            <a:ext cx="59119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Os Bancos e o Meio Ambi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Os Bancos de Desenvolvi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14480" y="0"/>
            <a:ext cx="9753840" cy="685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677520" cy="685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42191" b="0"/>
          <a:stretch/>
        </p:blipFill>
        <p:spPr>
          <a:xfrm>
            <a:off x="0" y="19080"/>
            <a:ext cx="5411880" cy="683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923240" y="181080"/>
            <a:ext cx="1539720" cy="147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81480" y="4808520"/>
            <a:ext cx="4443480" cy="641520"/>
          </a:xfrm>
          <a:prstGeom prst="rect">
            <a:avLst/>
          </a:prstGeom>
          <a:noFill/>
          <a:ln w="0">
            <a:noFill/>
          </a:ln>
          <a:effectLst>
            <a:outerShdw dist="40186" dir="97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674800"/>
            <a:ext cx="91440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89280" y="1927080"/>
            <a:ext cx="591192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O BNDES E O MEIO AMBI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Histór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552600"/>
            <a:ext cx="56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Política Ambiental do BN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4880" y="1849320"/>
            <a:ext cx="75056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251"/>
              </a:spcBef>
              <a:spcAft>
                <a:spcPts val="18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RINCÍP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2251"/>
              </a:spcBef>
              <a:spcAft>
                <a:spcPts val="18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DIRETRIZ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2251"/>
              </a:spcBef>
              <a:spcAft>
                <a:spcPts val="18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INSTRU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552600"/>
            <a:ext cx="56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Política Ambiental do BN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49200"/>
            <a:ext cx="914400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A preservação, a conservação e a recuperação do meio ambiente são essenciais para a humanidad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A observância de princípios ético-ambientais na concessão de crédito é um compromisso com as gerações presente e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O desempenho ambiental de atividades produtivas e de infra-estrutura induz o desenvolvimento econômico e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spcAft>
                <a:spcPts val="1400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O BNDES disponibiliza recursos adequados para a promoção da qualidade ambiental e de atividades ambientalmente sustentáve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29440" y="0"/>
            <a:ext cx="26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ncíp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552600"/>
            <a:ext cx="56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Política Ambiental do BN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90680"/>
            <a:ext cx="9144000" cy="54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Promoção da ecoeficiê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Avaliação do risco ambiental de créd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Análise ambiental de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Ações preventivas, apoiando e incentivando projetos e programas que equacionem os passivos ambientai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2001"/>
              </a:spcBef>
              <a:spcAft>
                <a:spcPts val="1599"/>
              </a:spcAft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Incentivo a produtos e processos ambientalmente mais adequados em toda a cadeia produ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7600" y="0"/>
            <a:ext cx="350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DIRETRIZ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4:29:36Z</dcterms:created>
  <dc:creator>Walsey</dc:creator>
  <dc:description/>
  <dc:language>en-US</dc:language>
  <cp:lastModifiedBy>Prodasen</cp:lastModifiedBy>
  <dcterms:modified xsi:type="dcterms:W3CDTF">2007-11-08T16:11:10Z</dcterms:modified>
  <cp:revision>382</cp:revision>
  <dc:subject>financiamentos do BNDES à eficiência energética</dc:subject>
  <dc:title>PROESCO</dc:title>
</cp:coreProperties>
</file>