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6854825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74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4760" cy="97488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19">
                <a:moveTo>
                  <a:pt x="5" y="0"/>
                </a:moveTo>
                <a:arcTo wR="5" hR="5" stAng="16200000" swAng="-5400000"/>
                <a:lnTo>
                  <a:pt x="0" y="30714"/>
                </a:lnTo>
                <a:arcTo wR="5" hR="5" stAng="10800000" swAng="-5400000"/>
                <a:lnTo>
                  <a:pt x="21595" y="30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4760" cy="97488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19">
                <a:moveTo>
                  <a:pt x="5" y="0"/>
                </a:moveTo>
                <a:arcTo wR="5" hR="5" stAng="16200000" swAng="-5400000"/>
                <a:lnTo>
                  <a:pt x="0" y="30714"/>
                </a:lnTo>
                <a:arcTo wR="5" hR="5" stAng="10800000" swAng="-5400000"/>
                <a:lnTo>
                  <a:pt x="21595" y="30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4760" cy="97488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19">
                <a:moveTo>
                  <a:pt x="5" y="0"/>
                </a:moveTo>
                <a:arcTo wR="5" hR="5" stAng="16200000" swAng="-5400000"/>
                <a:lnTo>
                  <a:pt x="0" y="30714"/>
                </a:lnTo>
                <a:arcTo wR="5" hR="5" stAng="10800000" swAng="-5400000"/>
                <a:lnTo>
                  <a:pt x="21595" y="30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4760" cy="97488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19">
                <a:moveTo>
                  <a:pt x="4" y="0"/>
                </a:moveTo>
                <a:arcTo wR="4" hR="4" stAng="16200000" swAng="-5400000"/>
                <a:lnTo>
                  <a:pt x="0" y="30715"/>
                </a:lnTo>
                <a:arcTo wR="4" hR="4" stAng="10800000" swAng="-5400000"/>
                <a:lnTo>
                  <a:pt x="21596" y="3071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87120" y="739800"/>
            <a:ext cx="487188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75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3878280" y="-360"/>
            <a:ext cx="296856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261360"/>
            <a:ext cx="296856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78280" y="9261360"/>
            <a:ext cx="296856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7F0A9-6FA0-4C0B-96FE-50F26996CBA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03320" y="739800"/>
            <a:ext cx="484668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77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87480" y="73980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77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87480" y="73980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77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87480" y="73980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77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87480" y="73980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77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87480" y="73980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77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87480" y="739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77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87480" y="73980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77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87480" y="73980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77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87480" y="739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77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87480" y="73980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77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87480" y="73980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77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1C61-349C-4404-92DD-8485CA2C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03AF-BFA6-4C11-A809-C43E6F8C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722-7A22-484C-A88A-D0DE5707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DD1B-5A05-43F0-9137-BE5EF283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0480-E93B-4F2A-844A-5244754D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1136-44C5-4B2E-A59F-9F56F505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DEB-DE3D-455F-937C-88B30E03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78AA-D82A-4C54-A01C-DCF72AEA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F18D-637E-418F-9078-A14B4F02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470E-3DA4-43B5-B08C-C0D7F35B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9A17-B1D6-401F-8A7A-28F5FCD0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AB3-7D80-4C54-BD56-4DBCD168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08448-EA7A-4428-BACD-7FF3CCDAE2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563480"/>
            <a:ext cx="907236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Arial"/>
              </a:rPr>
              <a:t>Desafio Energético e a Energia Solar Térm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162920" y="6845400"/>
            <a:ext cx="2743200" cy="5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2120" y="755640"/>
            <a:ext cx="84582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1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GUMAS VANTAGENS DA ENERGIA SOLAR TÉR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209680"/>
            <a:ext cx="8610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1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pacto ambiental desprezível quando comparado com outras font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vencionais de geração de energia elétr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ão emite gases responsáveis pelo efeito estufa ou nocivos à atmosfe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ão gera lixo/resíduos radiativ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ão provoca relocação de população, causada pela construção da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drelétric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s aquecedores termossolares são candidatos a projetos do Mecanismo d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senvolvimento Limpo (MDL), do Protocolo de Kyot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Ë uma energia limpa e renováve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antagens sociais, econômicas e tecnológic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162920" y="6845400"/>
            <a:ext cx="2743200" cy="5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2120" y="755640"/>
            <a:ext cx="84582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1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rgia Solar  no Brasil – Barrei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800" y="2160720"/>
            <a:ext cx="861084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1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sto inicia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mites para financiament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formaçã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onfiança do consumido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alida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ão de obra para instalação/manutenção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162920" y="6845400"/>
            <a:ext cx="2743200" cy="5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03280" y="157320"/>
            <a:ext cx="90676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eis de incentivo ao uso d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quecedores solar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752480"/>
            <a:ext cx="8458200" cy="51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1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ão Pau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duas leis municipais já garantem a instalação de sistemas para a captação de energia solar nas novas edificações residenciais, comerciais e industriais, além das construções de iniciativa do município. As leis prevêem a instalação de aquecimento solar como apoio ao gás ou energia elétrica nos edifícios na c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o Aleg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Lei municipal criou o Programa de Incentivo ao Uso de Aquecimento Solar. O objetivo é promover medidas necessárias ao fomento do uso e ao desenvolvimento tecnológico de sistemas de aproveitamento de energia s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lo Horizon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am aprovados dois projetos: um reduz o Imposto Predial e Territorial Urbano (IPTU) para aqueles que adotarem o sistema, uma das ações da política municipal de incentivo ao uso de formas alternativas de energia; outro obriga os empreendedores da construção civil a utilizarem a tubulação específica em prédios residenci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mpina Grande (PB), Varginha (MG) e Birigui (SP) também sancionaram leis que criam incentivos ao uso de aquecedores solares. Já Rio de Janeiro, Salvador (BA) e Curitiba (PR) têm projetos de leis nesse sentido tramitando em suas câmaras de vereadores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Rio de Janeiro, projeto em tramitação da vereadora Aspásia Camargo,  também dispõe sobre o suo de aquecedores solar térm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467480" y="6845400"/>
            <a:ext cx="2438640" cy="48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03280" y="379440"/>
            <a:ext cx="9067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GOVERNO FEDER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752480"/>
            <a:ext cx="8458200" cy="42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1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udo em and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Áreas de atuação prioritária em poten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Residencial classe mé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Residencial baixa r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Tur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Saú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467480" y="6845400"/>
            <a:ext cx="2438640" cy="48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03280" y="307800"/>
            <a:ext cx="90723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rgia Solar  no Brasil – pano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6840" y="1459080"/>
            <a:ext cx="8467920" cy="55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rea instalada acumulada de coletores solares - 3,1 milhões de m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scimento médio anual do mercado de coletores solares - 15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1% das residê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ência de 2178 M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ão evitada de mais de 860 mil toneladas de CO2 na atmosfera em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do: 132 milhões de 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62920" y="6845400"/>
            <a:ext cx="2743200" cy="5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0" y="3962520"/>
            <a:ext cx="576360" cy="428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V="1">
            <a:off x="7140600" y="4491000"/>
            <a:ext cx="144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7920"/>
            <a:ext cx="90723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norama Mund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162920" y="6845400"/>
            <a:ext cx="2743200" cy="546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68360" y="1057320"/>
            <a:ext cx="9144000" cy="5440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882880" y="2921040"/>
            <a:ext cx="576360" cy="428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895480" y="3365640"/>
            <a:ext cx="20880" cy="1452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971800" y="2590920"/>
            <a:ext cx="838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162920" y="6845400"/>
            <a:ext cx="2743200" cy="546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08040" y="1627200"/>
            <a:ext cx="9107640" cy="5087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1280" y="208080"/>
            <a:ext cx="90723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norama Mund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943600" y="3619440"/>
            <a:ext cx="576360" cy="428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flipV="1">
            <a:off x="5943600" y="4035240"/>
            <a:ext cx="144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06960" y="3289320"/>
            <a:ext cx="106704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979640"/>
            <a:ext cx="914904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080" y="1979640"/>
            <a:ext cx="914868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1080" y="1979640"/>
            <a:ext cx="914868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79280"/>
            <a:ext cx="864072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anorama Mund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xa de crescimento ( dados de 2004 em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adá*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emanha*:        3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ança:              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écia:                34              RAZ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strália*:           30            - custo do combust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panha:            29             - políticas de incen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ina:                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onia:             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UA:                  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asil*:               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dia*:                 8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namarca, Suécia, Holanda:  4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* Taxa média de crescimento dos últimos 3 an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8565" r="0" b="0"/>
          <a:stretch/>
        </p:blipFill>
        <p:spPr>
          <a:xfrm>
            <a:off x="304920" y="1554120"/>
            <a:ext cx="5333760" cy="3230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445080" y="2205000"/>
            <a:ext cx="266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2006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</a:rPr>
              <a:t> – 434.131 m² </a:t>
            </a:r>
            <a:br>
              <a:rPr sz="1500"/>
            </a:br>
            <a:r>
              <a:rPr b="1" lang="en-US" sz="1500" spc="-1" strike="noStrike">
                <a:solidFill>
                  <a:srgbClr val="003366"/>
                </a:solidFill>
                <a:latin typeface="Arial"/>
              </a:rPr>
              <a:t>Acumulado 3.112.105 m² </a:t>
            </a:r>
            <a:br>
              <a:rPr sz="1500"/>
            </a:br>
            <a:r>
              <a:rPr b="1" lang="en-US" sz="13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59480" y="2438280"/>
            <a:ext cx="533520" cy="18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16000" y="5578560"/>
            <a:ext cx="7775280" cy="974160"/>
            <a:chOff x="1116000" y="5578560"/>
            <a:chExt cx="7775280" cy="974160"/>
          </a:xfrm>
        </p:grpSpPr>
        <p:sp>
          <p:nvSpPr>
            <p:cNvPr id="79" name=""/>
            <p:cNvSpPr/>
            <p:nvPr/>
          </p:nvSpPr>
          <p:spPr>
            <a:xfrm>
              <a:off x="7720200" y="6144120"/>
              <a:ext cx="1169640" cy="4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82160" y="6144120"/>
              <a:ext cx="1238040" cy="4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37480" y="6144120"/>
              <a:ext cx="1444320" cy="4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31320" y="6144120"/>
              <a:ext cx="1406160" cy="4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73040" y="6144120"/>
              <a:ext cx="1358280" cy="4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00" y="6144120"/>
              <a:ext cx="1157040" cy="4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rcado  (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20200" y="5578560"/>
              <a:ext cx="1169640" cy="5655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sci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82160" y="5578560"/>
              <a:ext cx="1238040" cy="5655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dúst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37480" y="5578560"/>
              <a:ext cx="1444320" cy="5655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ercial e Institu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31320" y="5578560"/>
              <a:ext cx="1406160" cy="5655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idencial  Apartamen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73040" y="5578560"/>
              <a:ext cx="1358280" cy="5655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idenci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s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6000" y="5578560"/>
              <a:ext cx="1157040" cy="5655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16000" y="5578560"/>
              <a:ext cx="7774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16000" y="6551280"/>
              <a:ext cx="7774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16000" y="5578560"/>
              <a:ext cx="1080" cy="9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890200" y="5578560"/>
              <a:ext cx="1080" cy="9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16000" y="6144120"/>
              <a:ext cx="7774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73040" y="5578560"/>
              <a:ext cx="1080" cy="9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1320" y="5578560"/>
              <a:ext cx="1440" cy="9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37480" y="5578560"/>
              <a:ext cx="1440" cy="9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82160" y="5578560"/>
              <a:ext cx="1440" cy="9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20200" y="5578560"/>
              <a:ext cx="1080" cy="9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118040" y="5118120"/>
            <a:ext cx="14731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609480"/>
            <a:ext cx="77724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1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O BRASILEIRO – Aquecimento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086600"/>
            <a:ext cx="25909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ABRA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162920" y="6845400"/>
            <a:ext cx="2743200" cy="5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1979640" y="1887480"/>
            <a:ext cx="5888160" cy="5129280"/>
            <a:chOff x="1979640" y="1887480"/>
            <a:chExt cx="5888160" cy="5129280"/>
          </a:xfrm>
        </p:grpSpPr>
        <p:grpSp>
          <p:nvGrpSpPr>
            <p:cNvPr id="106" name=""/>
            <p:cNvGrpSpPr/>
            <p:nvPr/>
          </p:nvGrpSpPr>
          <p:grpSpPr>
            <a:xfrm>
              <a:off x="1985760" y="1893600"/>
              <a:ext cx="5871960" cy="5111640"/>
              <a:chOff x="1985760" y="1893600"/>
              <a:chExt cx="5871960" cy="511164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1985760" y="1893600"/>
                <a:ext cx="4470480" cy="549000"/>
                <a:chOff x="1985760" y="1893600"/>
                <a:chExt cx="4470480" cy="5490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985760" y="1893600"/>
                  <a:ext cx="4470480" cy="549000"/>
                </a:xfrm>
                <a:prstGeom prst="rect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1985760" y="1893600"/>
                  <a:ext cx="4467240" cy="545760"/>
                  <a:chOff x="1985760" y="1893600"/>
                  <a:chExt cx="4467240" cy="54576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2029680" y="1893600"/>
                    <a:ext cx="4380120" cy="54576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87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Uso do Chuveiro no Setor Residencia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1985760" y="1893600"/>
                    <a:ext cx="4467240" cy="54576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7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" name=""/>
              <p:cNvGrpSpPr/>
              <p:nvPr/>
            </p:nvGrpSpPr>
            <p:grpSpPr>
              <a:xfrm>
                <a:off x="6459480" y="1893600"/>
                <a:ext cx="1398240" cy="549000"/>
                <a:chOff x="6459480" y="1893600"/>
                <a:chExt cx="1398240" cy="5490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6459480" y="1893600"/>
                  <a:ext cx="1398240" cy="549000"/>
                </a:xfrm>
                <a:prstGeom prst="rect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" name=""/>
                <p:cNvGrpSpPr/>
                <p:nvPr/>
              </p:nvGrpSpPr>
              <p:grpSpPr>
                <a:xfrm>
                  <a:off x="6459480" y="1893600"/>
                  <a:ext cx="1395000" cy="545760"/>
                  <a:chOff x="6459480" y="1893600"/>
                  <a:chExt cx="1395000" cy="54576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6503400" y="1893600"/>
                    <a:ext cx="1306080" cy="54576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87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00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6459480" y="1893600"/>
                    <a:ext cx="1395000" cy="54576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7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7" name=""/>
              <p:cNvGrpSpPr/>
              <p:nvPr/>
            </p:nvGrpSpPr>
            <p:grpSpPr>
              <a:xfrm>
                <a:off x="1985760" y="2444040"/>
                <a:ext cx="4470480" cy="4561200"/>
                <a:chOff x="1985760" y="2444040"/>
                <a:chExt cx="4470480" cy="45612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029680" y="2444040"/>
                  <a:ext cx="4383360" cy="45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87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nsumo de eletricidade no setor residencial (GWh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enetração do chuveiro elétrico no Brasil (%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úmero de chuveiros elétric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manda de potência na ponta pelo chuveiro elétrico (MW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nsumo de energia elétrica por domicílio por ano para aquecimento de água (KWh/ano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articipação do aquecimento de água no consumo de energia no setor residencial (%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manda de potência retirada da ponta (MW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conomia anual de energia com uso do solar (GWh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985760" y="2444040"/>
                  <a:ext cx="4470480" cy="45612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6459480" y="2444040"/>
                <a:ext cx="1398240" cy="4561200"/>
                <a:chOff x="6459480" y="2444040"/>
                <a:chExt cx="1398240" cy="45612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6503400" y="2444040"/>
                  <a:ext cx="1309320" cy="45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87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2.25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1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.620.11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.38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3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8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33,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459480" y="2444040"/>
                  <a:ext cx="1398240" cy="45612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" name=""/>
            <p:cNvSpPr/>
            <p:nvPr/>
          </p:nvSpPr>
          <p:spPr>
            <a:xfrm>
              <a:off x="1979640" y="1887480"/>
              <a:ext cx="5888160" cy="5129280"/>
            </a:xfrm>
            <a:prstGeom prst="rect">
              <a:avLst/>
            </a:prstGeom>
            <a:noFill/>
            <a:ln w="126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03280" y="236520"/>
            <a:ext cx="90723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rgia Solar Térmic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62920" y="7054920"/>
            <a:ext cx="274320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38080" y="263520"/>
            <a:ext cx="85345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umo de energia no horário de p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3361" t="3173" r="0" b="4289"/>
          <a:stretch/>
        </p:blipFill>
        <p:spPr>
          <a:xfrm>
            <a:off x="1698480" y="1440000"/>
            <a:ext cx="6940800" cy="5817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4920" y="1098720"/>
            <a:ext cx="937260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162920" y="6845400"/>
            <a:ext cx="2743200" cy="5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2577960" y="4017960"/>
          <a:ext cx="5164200" cy="31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7960" y="4017960"/>
                    <a:ext cx="5164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990720" y="252360"/>
            <a:ext cx="83055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quecimento Solar – Sustentabilidad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160" y="1874880"/>
            <a:ext cx="9288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enário A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87400" y="2986200"/>
            <a:ext cx="554040" cy="315720"/>
          </a:xfrm>
          <a:prstGeom prst="rightArrow">
            <a:avLst>
              <a:gd name="adj1" fmla="val 50000"/>
              <a:gd name="adj2" fmla="val 4387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rcRect l="0" t="0" r="80439" b="-30305"/>
          <a:stretch/>
        </p:blipFill>
        <p:spPr>
          <a:xfrm>
            <a:off x="376200" y="2585880"/>
            <a:ext cx="773280" cy="824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rcRect l="0" t="0" r="83728" b="-12219"/>
          <a:stretch/>
        </p:blipFill>
        <p:spPr>
          <a:xfrm>
            <a:off x="754200" y="2986200"/>
            <a:ext cx="711000" cy="711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46160" y="2825640"/>
            <a:ext cx="26193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4%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etor Residencial</a:t>
            </a:r>
            <a:br>
              <a:rPr sz="1400"/>
            </a:br>
            <a:r>
              <a:rPr b="1" i="1" lang="en-US" sz="800" spc="-1" strike="noStrike">
                <a:solidFill>
                  <a:srgbClr val="003366"/>
                </a:solidFill>
                <a:latin typeface="Arial"/>
              </a:rPr>
              <a:t>Fonte: E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48000" y="2986200"/>
            <a:ext cx="554040" cy="315720"/>
          </a:xfrm>
          <a:prstGeom prst="rightArrow">
            <a:avLst>
              <a:gd name="adj1" fmla="val 50000"/>
              <a:gd name="adj2" fmla="val 4387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05680" y="2986200"/>
            <a:ext cx="554040" cy="315720"/>
          </a:xfrm>
          <a:prstGeom prst="rightArrow">
            <a:avLst>
              <a:gd name="adj1" fmla="val 50000"/>
              <a:gd name="adj2" fmla="val 4387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45080" y="2905200"/>
            <a:ext cx="2619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5%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Aquecimento de água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1400" y="2905200"/>
            <a:ext cx="26211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6%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Energia do Bra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9480" y="5129280"/>
            <a:ext cx="26208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78%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100"/>
            </a:b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Aquecedor Elétrico</a:t>
            </a:r>
            <a:br>
              <a:rPr sz="1100"/>
            </a:b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(99,7 %  Chuveiro Elétrico)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72120" y="5288040"/>
            <a:ext cx="26211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% </a:t>
            </a:r>
            <a:br>
              <a:rPr sz="1200"/>
            </a:b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Gá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92920" y="6081840"/>
            <a:ext cx="2619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4% </a:t>
            </a:r>
            <a:br>
              <a:rPr sz="1200"/>
            </a:b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Não utilizam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9120" y="6686640"/>
            <a:ext cx="26208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0,4% </a:t>
            </a:r>
            <a:br>
              <a:rPr sz="1200"/>
            </a:b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Aquecimento S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25760" y="4017960"/>
            <a:ext cx="72244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quecimento de Água Residencial</a:t>
            </a:r>
            <a:br>
              <a:rPr sz="1600"/>
            </a:b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(PPH – Procel / Eletrobras 2005)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30480" y="3782880"/>
            <a:ext cx="7778520" cy="325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92920" y="6399360"/>
            <a:ext cx="23796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71760" y="6637320"/>
            <a:ext cx="26211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,6% </a:t>
            </a:r>
            <a:br>
              <a:rPr sz="1200"/>
            </a:b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Out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878000" y="6796080"/>
            <a:ext cx="722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597640" y="6475320"/>
            <a:ext cx="23796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7086600"/>
            <a:ext cx="20574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e: PUC Min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7467480" y="6845400"/>
            <a:ext cx="2438640" cy="48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odasen</cp:lastModifiedBy>
  <dcterms:modified xsi:type="dcterms:W3CDTF">2007-11-08T18:50:53Z</dcterms:modified>
  <cp:revision>1</cp:revision>
  <dc:subject/>
  <dc:title>Energias Renováveis no Brasil- situação atual e perspectivas</dc:title>
</cp:coreProperties>
</file>