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4A0C-9082-4880-8D2A-6307BA3F0B1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C362-BA66-4659-AB19-6ACF23FBE2E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677960" y="1060560"/>
            <a:ext cx="3503520" cy="26272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3656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3CB-C175-43A1-8CD1-CB025F24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056-B6F5-4543-81FA-B086D8FF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C865-AE4E-46DD-9145-1C2F49B3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350-300E-47E2-9498-41858A68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DF7-B5CC-4AD6-80E3-AF2C5FA8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1D3-0DF4-4A30-99E3-68E02156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6C30-A01B-4076-BEDC-8F712C6C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DE26-1C52-4A9A-B579-A7694F56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F175-E07E-4CF7-B011-5E8896E4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78CA-B81E-4F34-8919-32F76F8E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BFB-1194-43D2-9930-AD59F041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A4E-8089-48D2-91D3-963C9143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B5B8-A8DB-4718-916A-379851BC934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84360" cy="62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camaral@abesco.com.br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camaral@abesco.com.br" TargetMode="External"/><Relationship Id="rId2" Type="http://schemas.openxmlformats.org/officeDocument/2006/relationships/hyperlink" Target="http://www.eficienciaenergetica.org.br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8229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AS ESCO’s e o Mercado de Eficiência Energét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4221000"/>
            <a:ext cx="403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Maria Cecília Ama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ABESCO - Diretora Execu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(11) 3549-45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camaral@abesco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981000"/>
            <a:ext cx="87854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95280" y="1557360"/>
            <a:ext cx="730908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981000"/>
            <a:ext cx="7202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0"/>
            <a:ext cx="66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 Black"/>
              </a:rPr>
              <a:t>Vantagens da Eficiência Energ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81840" y="3137040"/>
            <a:ext cx="542880" cy="685800"/>
          </a:xfrm>
          <a:custGeom>
            <a:avLst/>
            <a:gdLst>
              <a:gd name="textAreaLeft" fmla="*/ 84600 w 542880"/>
              <a:gd name="textAreaRight" fmla="*/ 475200 w 5428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c0c0c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13000"/>
            <a:ext cx="8640720" cy="48740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"/>
              </a:rPr>
              <a:t>ELEVA a “Vantagem Competitiva” da indústria  através da otimização do desempenho energético, obten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"/>
              </a:rPr>
              <a:t>Menores custos com Energ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"/>
              </a:rPr>
              <a:t>Menor impacto ambiental da produ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"/>
              </a:rPr>
              <a:t>Maior Produtivid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"/>
              </a:rPr>
              <a:t>Melhor resultado financei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981000"/>
            <a:ext cx="87854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95280" y="1557360"/>
            <a:ext cx="730908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981000"/>
            <a:ext cx="7202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35280" y="0"/>
            <a:ext cx="712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ENEFÍCIOS DO CONTRATO DE PERFORMANCE e das ESC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81840" y="3137040"/>
            <a:ext cx="542880" cy="685800"/>
          </a:xfrm>
          <a:custGeom>
            <a:avLst/>
            <a:gdLst>
              <a:gd name="textAreaLeft" fmla="*/ 84600 w 542880"/>
              <a:gd name="textAreaRight" fmla="*/ 475200 w 5428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c0c0c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413000"/>
            <a:ext cx="8496000" cy="50644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Especialistas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cados no negócio da Indú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Metodologia de Financiamento de Projet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baseado em Fluxo de Caixa 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Economias Garant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cesso a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receitas com MDL (créditos de carbo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Melhoria do Desempenh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da Indústria com Fluxo de Caixa 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981000"/>
            <a:ext cx="87854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Principais Barrei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Webdings"/>
                <a:ea typeface="Webdings"/>
              </a:rPr>
              <a:t></a:t>
            </a: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Porte das Esco’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Webdings"/>
                <a:ea typeface="Webdings"/>
              </a:rPr>
              <a:t></a:t>
            </a: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Cultura do Mercado. Valoriza E.E. ligada a situações de emergência e não como atividade estrutural da empre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Webdings"/>
                <a:ea typeface="Webdings"/>
              </a:rPr>
              <a:t></a:t>
            </a: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Mecanismo de aferição das economi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Webdings"/>
                <a:ea typeface="Webdings"/>
              </a:rPr>
              <a:t></a:t>
            </a: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Mecanismos de financiamento: capilaridade e dissemin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Webdings"/>
                <a:ea typeface="Webdings"/>
              </a:rPr>
              <a:t>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Ausência de mecanismos facilitadores que possibilitem projetos no Setor Público - desperdício de 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agnitude do consumo de energia elétrica do setor (4%  do mercado brasileiro) e grande replicabilidade das 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rande potencial p/ eficientização frente às tecnologias existentes e à fragilidade dos sistemas administrativos p/ controle do consumo de utilidades e educação quanto ao seu uso 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ixo nível de investimento p/ o potencial de retorno via economia de energia (geralmente entre 20% a 4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feito demonstração para demais setores da econom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2600" y="1066680"/>
            <a:ext cx="668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9900"/>
                </a:solidFill>
                <a:latin typeface="Arial"/>
              </a:rPr>
              <a:t>PORQUE ATUAR NO SETOR PÚBLICO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12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cc"/>
                </a:solidFill>
                <a:latin typeface="Arial"/>
                <a:ea typeface="Arial"/>
              </a:rPr>
              <a:t>Melhoria da imagem do Governo, com a ação de combate ao desperdício de energia elétrica, constituindo-se num exemplo e numa referência para a sociedad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12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cc"/>
                </a:solidFill>
                <a:latin typeface="Arial"/>
                <a:ea typeface="Arial"/>
              </a:rPr>
              <a:t>Melhoria para os usuários das instalações, com a normatização das condições de iluminamento e climatiz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12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cc"/>
                </a:solidFill>
                <a:latin typeface="Arial"/>
                <a:ea typeface="Arial"/>
              </a:rPr>
              <a:t>Geração de empregos, com a movimentação de todo um setor da economia ligado à prestação de serviços e a equipamentos efici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12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cc"/>
                </a:solidFill>
                <a:latin typeface="Arial"/>
                <a:ea typeface="Arial"/>
              </a:rPr>
              <a:t>Redução do nível de inadimplência do setor com a otimização dos seus custos com energ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12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cc"/>
                </a:solidFill>
                <a:latin typeface="Arial"/>
                <a:ea typeface="Arial"/>
              </a:rPr>
              <a:t>Postergação de investimentos do setor elétrico, com a redução da necessidade de expansão do sistema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12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cc"/>
                </a:solidFill>
                <a:latin typeface="Arial"/>
                <a:ea typeface="Arial"/>
              </a:rPr>
              <a:t>Redução dos impactos no meio ambiente decorrentes da expansão da oferta de energia elétr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0840" y="792000"/>
            <a:ext cx="6555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9900"/>
                </a:solidFill>
                <a:latin typeface="Arial"/>
              </a:rPr>
              <a:t>BENEFÍCIOS DA ATUAÇÃO NO SE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795840" y="2751120"/>
            <a:ext cx="1460520" cy="1555920"/>
          </a:xfrm>
          <a:prstGeom prst="ellipse">
            <a:avLst/>
          </a:prstGeom>
          <a:gradFill rotWithShape="0">
            <a:gsLst>
              <a:gs pos="0">
                <a:srgbClr val="cedafd"/>
              </a:gs>
              <a:gs pos="100000">
                <a:srgbClr val="114ff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a2f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4520" y="3124080"/>
            <a:ext cx="147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ei 8.666/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573800" y="779400"/>
            <a:ext cx="2543040" cy="1689840"/>
            <a:chOff x="4573800" y="779400"/>
            <a:chExt cx="2543040" cy="1689840"/>
          </a:xfrm>
        </p:grpSpPr>
        <p:sp>
          <p:nvSpPr>
            <p:cNvPr id="142" name=""/>
            <p:cNvSpPr/>
            <p:nvPr/>
          </p:nvSpPr>
          <p:spPr>
            <a:xfrm>
              <a:off x="4648320" y="779400"/>
              <a:ext cx="2468520" cy="877320"/>
            </a:xfrm>
            <a:prstGeom prst="ellipse">
              <a:avLst/>
            </a:prstGeom>
            <a:gradFill rotWithShape="0">
              <a:gsLst>
                <a:gs pos="0">
                  <a:srgbClr val="fdeacb"/>
                </a:gs>
                <a:gs pos="100000">
                  <a:srgbClr val="fe9b0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7880000">
              <a:off x="4496400" y="1822680"/>
              <a:ext cx="877320" cy="352440"/>
            </a:xfrm>
            <a:prstGeom prst="rightArrow">
              <a:avLst>
                <a:gd name="adj1" fmla="val 50000"/>
                <a:gd name="adj2" fmla="val 124521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36040" y="942840"/>
              <a:ext cx="1773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</a:rPr>
                <a:t>Necessidade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</a:rPr>
                <a:t>Projeto Bás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334120" y="3048120"/>
            <a:ext cx="3504600" cy="952200"/>
            <a:chOff x="5334120" y="3048120"/>
            <a:chExt cx="3504600" cy="952200"/>
          </a:xfrm>
        </p:grpSpPr>
        <p:sp>
          <p:nvSpPr>
            <p:cNvPr id="146" name=""/>
            <p:cNvSpPr/>
            <p:nvPr/>
          </p:nvSpPr>
          <p:spPr>
            <a:xfrm>
              <a:off x="6306480" y="3048120"/>
              <a:ext cx="2532240" cy="952200"/>
            </a:xfrm>
            <a:prstGeom prst="ellipse">
              <a:avLst/>
            </a:prstGeom>
            <a:gradFill rotWithShape="0">
              <a:gsLst>
                <a:gs pos="0">
                  <a:srgbClr val="fdeacb"/>
                </a:gs>
                <a:gs pos="100000">
                  <a:srgbClr val="fe9b0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3369960"/>
              <a:ext cx="885240" cy="388800"/>
            </a:xfrm>
            <a:prstGeom prst="rightArrow">
              <a:avLst>
                <a:gd name="adj1" fmla="val 50000"/>
                <a:gd name="adj2" fmla="val 1138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61080" y="3306240"/>
              <a:ext cx="1905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</a:rPr>
                <a:t>Quem projeta n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</a:rPr>
                <a:t>execu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070240" y="4123800"/>
            <a:ext cx="3452760" cy="1021320"/>
            <a:chOff x="5070240" y="4123800"/>
            <a:chExt cx="3452760" cy="1021320"/>
          </a:xfrm>
        </p:grpSpPr>
        <p:sp>
          <p:nvSpPr>
            <p:cNvPr id="150" name=""/>
            <p:cNvSpPr/>
            <p:nvPr/>
          </p:nvSpPr>
          <p:spPr>
            <a:xfrm>
              <a:off x="6054120" y="4267080"/>
              <a:ext cx="2468880" cy="878040"/>
            </a:xfrm>
            <a:prstGeom prst="ellipse">
              <a:avLst/>
            </a:prstGeom>
            <a:gradFill rotWithShape="0">
              <a:gsLst>
                <a:gs pos="0">
                  <a:srgbClr val="fdeacb"/>
                </a:gs>
                <a:gs pos="100000">
                  <a:srgbClr val="fe9b0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070240" y="4123800"/>
              <a:ext cx="3075120" cy="889560"/>
              <a:chOff x="5070240" y="4123800"/>
              <a:chExt cx="3075120" cy="889560"/>
            </a:xfrm>
          </p:grpSpPr>
          <p:sp>
            <p:nvSpPr>
              <p:cNvPr id="152" name=""/>
              <p:cNvSpPr/>
              <p:nvPr/>
            </p:nvSpPr>
            <p:spPr>
              <a:xfrm rot="12300000">
                <a:off x="5105160" y="4289400"/>
                <a:ext cx="863640" cy="358200"/>
              </a:xfrm>
              <a:prstGeom prst="leftArrow">
                <a:avLst>
                  <a:gd name="adj1" fmla="val 50000"/>
                  <a:gd name="adj2" fmla="val 120497"/>
                </a:avLst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519960" y="4434120"/>
                <a:ext cx="16254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81d58"/>
                    </a:solidFill>
                    <a:latin typeface="Arial"/>
                  </a:rPr>
                  <a:t>Altos cust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81d58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81d58"/>
                    </a:solidFill>
                    <a:latin typeface="Arial"/>
                  </a:rPr>
                  <a:t>das propost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4539240" y="4463640"/>
            <a:ext cx="2633040" cy="1692720"/>
            <a:chOff x="4539240" y="4463640"/>
            <a:chExt cx="2633040" cy="1692720"/>
          </a:xfrm>
        </p:grpSpPr>
        <p:sp>
          <p:nvSpPr>
            <p:cNvPr id="155" name=""/>
            <p:cNvSpPr/>
            <p:nvPr/>
          </p:nvSpPr>
          <p:spPr>
            <a:xfrm>
              <a:off x="4597560" y="5280120"/>
              <a:ext cx="2471400" cy="876240"/>
            </a:xfrm>
            <a:prstGeom prst="ellipse">
              <a:avLst/>
            </a:prstGeom>
            <a:gradFill rotWithShape="0">
              <a:gsLst>
                <a:gs pos="0">
                  <a:srgbClr val="fdeacb"/>
                </a:gs>
                <a:gs pos="100000">
                  <a:srgbClr val="fe9b0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4520000">
              <a:off x="4462920" y="4756680"/>
              <a:ext cx="876600" cy="354240"/>
            </a:xfrm>
            <a:prstGeom prst="leftArrow">
              <a:avLst>
                <a:gd name="adj1" fmla="val 50000"/>
                <a:gd name="adj2" fmla="val 123672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0" y="5334120"/>
              <a:ext cx="2600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81d5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81d58"/>
                  </a:solidFill>
                  <a:latin typeface="Arial"/>
                </a:rPr>
                <a:t>Orçamento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</a:rPr>
                <a:t>Custeio x Investi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641240" y="685800"/>
            <a:ext cx="2786400" cy="1827000"/>
            <a:chOff x="1641240" y="685800"/>
            <a:chExt cx="2786400" cy="1827000"/>
          </a:xfrm>
        </p:grpSpPr>
        <p:sp>
          <p:nvSpPr>
            <p:cNvPr id="159" name=""/>
            <p:cNvSpPr/>
            <p:nvPr/>
          </p:nvSpPr>
          <p:spPr>
            <a:xfrm>
              <a:off x="1749600" y="685800"/>
              <a:ext cx="2517480" cy="1014480"/>
            </a:xfrm>
            <a:prstGeom prst="ellipse">
              <a:avLst/>
            </a:prstGeom>
            <a:gradFill rotWithShape="0">
              <a:gsLst>
                <a:gs pos="0">
                  <a:srgbClr val="fdeacb"/>
                </a:gs>
                <a:gs pos="100000">
                  <a:srgbClr val="fe9b0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3720000">
              <a:off x="3532680" y="1865520"/>
              <a:ext cx="876240" cy="354240"/>
            </a:xfrm>
            <a:prstGeom prst="leftArrow">
              <a:avLst>
                <a:gd name="adj1" fmla="val 50000"/>
                <a:gd name="adj2" fmla="val 123621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41240" y="838080"/>
              <a:ext cx="278640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</a:rPr>
                <a:t>Critérios de medição 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</a:rPr>
                <a:t>Verificação das econom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4600" y="1873080"/>
            <a:ext cx="3379680" cy="946080"/>
            <a:chOff x="444600" y="1873080"/>
            <a:chExt cx="3379680" cy="946080"/>
          </a:xfrm>
        </p:grpSpPr>
        <p:sp>
          <p:nvSpPr>
            <p:cNvPr id="163" name=""/>
            <p:cNvSpPr/>
            <p:nvPr/>
          </p:nvSpPr>
          <p:spPr>
            <a:xfrm>
              <a:off x="444600" y="1873080"/>
              <a:ext cx="2468880" cy="878040"/>
            </a:xfrm>
            <a:prstGeom prst="ellipse">
              <a:avLst/>
            </a:prstGeom>
            <a:gradFill rotWithShape="0">
              <a:gsLst>
                <a:gs pos="0">
                  <a:srgbClr val="fdeacb"/>
                </a:gs>
                <a:gs pos="100000">
                  <a:srgbClr val="fe9b0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500000">
              <a:off x="2925720" y="2295000"/>
              <a:ext cx="863280" cy="358560"/>
            </a:xfrm>
            <a:prstGeom prst="leftArrow">
              <a:avLst>
                <a:gd name="adj1" fmla="val 50000"/>
                <a:gd name="adj2" fmla="val 120326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920" y="1960920"/>
              <a:ext cx="2336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</a:rPr>
                <a:t>Critérios de avaliaçã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</a:rPr>
                <a:t>das propos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0" y="2971800"/>
            <a:ext cx="3428640" cy="870120"/>
            <a:chOff x="0" y="2971800"/>
            <a:chExt cx="3428640" cy="870120"/>
          </a:xfrm>
        </p:grpSpPr>
        <p:sp>
          <p:nvSpPr>
            <p:cNvPr id="167" name=""/>
            <p:cNvSpPr/>
            <p:nvPr/>
          </p:nvSpPr>
          <p:spPr>
            <a:xfrm>
              <a:off x="0" y="2971800"/>
              <a:ext cx="2476800" cy="818280"/>
            </a:xfrm>
            <a:prstGeom prst="ellipse">
              <a:avLst/>
            </a:prstGeom>
            <a:gradFill rotWithShape="0">
              <a:gsLst>
                <a:gs pos="0">
                  <a:srgbClr val="fdeacb"/>
                </a:gs>
                <a:gs pos="100000">
                  <a:srgbClr val="fe9b0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62480" y="3248280"/>
              <a:ext cx="866160" cy="334080"/>
            </a:xfrm>
            <a:prstGeom prst="leftArrow">
              <a:avLst>
                <a:gd name="adj1" fmla="val 50000"/>
                <a:gd name="adj2" fmla="val 129573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6520" y="3262680"/>
              <a:ext cx="1727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</a:rPr>
                <a:t>Fragilidade d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</a:rPr>
                <a:t>garant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38040" y="4102200"/>
            <a:ext cx="3559320" cy="1020600"/>
            <a:chOff x="338040" y="4102200"/>
            <a:chExt cx="3559320" cy="1020600"/>
          </a:xfrm>
        </p:grpSpPr>
        <p:sp>
          <p:nvSpPr>
            <p:cNvPr id="171" name=""/>
            <p:cNvSpPr/>
            <p:nvPr/>
          </p:nvSpPr>
          <p:spPr>
            <a:xfrm>
              <a:off x="443880" y="4245120"/>
              <a:ext cx="2469600" cy="877680"/>
            </a:xfrm>
            <a:prstGeom prst="ellipse">
              <a:avLst/>
            </a:prstGeom>
            <a:gradFill rotWithShape="0">
              <a:gsLst>
                <a:gs pos="0">
                  <a:srgbClr val="fdeacb"/>
                </a:gs>
                <a:gs pos="100000">
                  <a:srgbClr val="fe9b0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9300000">
              <a:off x="2998800" y="4267800"/>
              <a:ext cx="863280" cy="358200"/>
            </a:xfrm>
            <a:prstGeom prst="rightArrow">
              <a:avLst>
                <a:gd name="adj1" fmla="val 50000"/>
                <a:gd name="adj2" fmla="val 120558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8040" y="4408920"/>
              <a:ext cx="2772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</a:rPr>
                <a:t>Prazos contratuais 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</a:rPr>
                <a:t>Continuidade dos serviç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758960" y="4470480"/>
            <a:ext cx="2579760" cy="1688760"/>
            <a:chOff x="1758960" y="4470480"/>
            <a:chExt cx="2579760" cy="1688760"/>
          </a:xfrm>
        </p:grpSpPr>
        <p:sp>
          <p:nvSpPr>
            <p:cNvPr id="175" name=""/>
            <p:cNvSpPr/>
            <p:nvPr/>
          </p:nvSpPr>
          <p:spPr>
            <a:xfrm>
              <a:off x="1758960" y="5283000"/>
              <a:ext cx="2468520" cy="876240"/>
            </a:xfrm>
            <a:prstGeom prst="ellipse">
              <a:avLst/>
            </a:prstGeom>
            <a:gradFill rotWithShape="0">
              <a:gsLst>
                <a:gs pos="0">
                  <a:srgbClr val="fdeacb"/>
                </a:gs>
                <a:gs pos="100000">
                  <a:srgbClr val="fe9b0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7080000">
              <a:off x="3538800" y="4763880"/>
              <a:ext cx="876600" cy="352440"/>
            </a:xfrm>
            <a:prstGeom prst="rightArrow">
              <a:avLst>
                <a:gd name="adj1" fmla="val 50000"/>
                <a:gd name="adj2" fmla="val 124419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71640" y="5445000"/>
              <a:ext cx="2324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</a:rPr>
                <a:t>Imprevisibilidade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</a:rPr>
                <a:t>Economias e Recei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074920" y="1873080"/>
            <a:ext cx="3459240" cy="956880"/>
            <a:chOff x="5074920" y="1873080"/>
            <a:chExt cx="3459240" cy="956880"/>
          </a:xfrm>
        </p:grpSpPr>
        <p:sp>
          <p:nvSpPr>
            <p:cNvPr id="179" name=""/>
            <p:cNvSpPr/>
            <p:nvPr/>
          </p:nvSpPr>
          <p:spPr>
            <a:xfrm>
              <a:off x="6065280" y="1873080"/>
              <a:ext cx="2468880" cy="878040"/>
            </a:xfrm>
            <a:prstGeom prst="ellipse">
              <a:avLst/>
            </a:prstGeom>
            <a:gradFill rotWithShape="0">
              <a:gsLst>
                <a:gs pos="0">
                  <a:srgbClr val="fdeacb"/>
                </a:gs>
                <a:gs pos="100000">
                  <a:srgbClr val="fe9b0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100000">
              <a:off x="5116320" y="2294640"/>
              <a:ext cx="863640" cy="358560"/>
            </a:xfrm>
            <a:prstGeom prst="rightArrow">
              <a:avLst>
                <a:gd name="adj1" fmla="val 50000"/>
                <a:gd name="adj2" fmla="val 120487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44000" y="2036520"/>
              <a:ext cx="1940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</a:rPr>
                <a:t>Determinação 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</a:rPr>
                <a:t>Quantitativ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100000">
              <a:off x="5110200" y="2305440"/>
              <a:ext cx="863640" cy="358560"/>
            </a:xfrm>
            <a:prstGeom prst="rightArrow">
              <a:avLst>
                <a:gd name="adj1" fmla="val 50000"/>
                <a:gd name="adj2" fmla="val 120487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280" y="289548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1371600"/>
            <a:ext cx="2698920" cy="102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62520" y="1500120"/>
            <a:ext cx="2467080" cy="8622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97400" y="5234040"/>
            <a:ext cx="2466720" cy="8618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86480" y="3059280"/>
            <a:ext cx="2467080" cy="86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5400" y="4359240"/>
            <a:ext cx="2467080" cy="8622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80040" y="4383000"/>
            <a:ext cx="2467080" cy="8622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38960" y="3351240"/>
            <a:ext cx="861840" cy="352440"/>
          </a:xfrm>
          <a:prstGeom prst="rightArrow">
            <a:avLst>
              <a:gd name="adj1" fmla="val 50000"/>
              <a:gd name="adj2" fmla="val 122279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rot="1500000">
            <a:off x="3197160" y="2418840"/>
            <a:ext cx="863640" cy="352440"/>
          </a:xfrm>
          <a:prstGeom prst="rightArrow">
            <a:avLst>
              <a:gd name="adj1" fmla="val 50000"/>
              <a:gd name="adj2" fmla="val 122534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0100000">
            <a:off x="5246640" y="2351160"/>
            <a:ext cx="863640" cy="352440"/>
          </a:xfrm>
          <a:prstGeom prst="rightArrow">
            <a:avLst>
              <a:gd name="adj1" fmla="val 50000"/>
              <a:gd name="adj2" fmla="val 122534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rot="16140000">
            <a:off x="4227120" y="4593240"/>
            <a:ext cx="861840" cy="352440"/>
          </a:xfrm>
          <a:prstGeom prst="rightArrow">
            <a:avLst>
              <a:gd name="adj1" fmla="val 50000"/>
              <a:gd name="adj2" fmla="val 122279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9300000">
            <a:off x="3131280" y="4174560"/>
            <a:ext cx="863640" cy="352440"/>
          </a:xfrm>
          <a:prstGeom prst="rightArrow">
            <a:avLst>
              <a:gd name="adj1" fmla="val 50000"/>
              <a:gd name="adj2" fmla="val 122534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rot="12300000">
            <a:off x="5245920" y="4174920"/>
            <a:ext cx="863640" cy="352440"/>
          </a:xfrm>
          <a:prstGeom prst="rightArrow">
            <a:avLst>
              <a:gd name="adj1" fmla="val 50000"/>
              <a:gd name="adj2" fmla="val 122534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29040" y="2689200"/>
            <a:ext cx="1457280" cy="153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114ff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a2f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3520" y="2952720"/>
            <a:ext cx="1487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Solu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05800" y="1679400"/>
            <a:ext cx="2152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81d58"/>
                </a:solidFill>
                <a:latin typeface="Arial"/>
              </a:rPr>
              <a:t>Contrat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81d58"/>
                </a:solidFill>
                <a:latin typeface="Arial"/>
              </a:rPr>
              <a:t>Manutenção/Un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22600" y="327672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Vend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Uti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4320" y="4419720"/>
            <a:ext cx="1920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icitação p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Técnica e Pre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9560" y="4432320"/>
            <a:ext cx="1832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Premiação p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20040" y="5452920"/>
            <a:ext cx="1580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ont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ontinu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17960" y="1600200"/>
            <a:ext cx="1769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</a:rPr>
              <a:t>Licitaçã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</a:rPr>
              <a:t>Projeto Básico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</a:rPr>
              <a:t>M&amp;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80600" y="3121200"/>
            <a:ext cx="3368880" cy="637560"/>
            <a:chOff x="480600" y="3121200"/>
            <a:chExt cx="3368880" cy="637560"/>
          </a:xfrm>
        </p:grpSpPr>
        <p:sp>
          <p:nvSpPr>
            <p:cNvPr id="205" name=""/>
            <p:cNvSpPr/>
            <p:nvPr/>
          </p:nvSpPr>
          <p:spPr>
            <a:xfrm flipH="1">
              <a:off x="2985480" y="3351240"/>
              <a:ext cx="863640" cy="352440"/>
            </a:xfrm>
            <a:prstGeom prst="rightArrow">
              <a:avLst>
                <a:gd name="adj1" fmla="val 50000"/>
                <a:gd name="adj2" fmla="val 122534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0600" y="3121200"/>
              <a:ext cx="2341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Melhor Estrutur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Garant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276720" y="609480"/>
            <a:ext cx="2743200" cy="1067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70120" y="857160"/>
            <a:ext cx="2162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ontrat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Manutenção G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140000">
            <a:off x="4156200" y="1940040"/>
            <a:ext cx="861840" cy="334800"/>
          </a:xfrm>
          <a:prstGeom prst="rightArrow">
            <a:avLst>
              <a:gd name="adj1" fmla="val 50000"/>
              <a:gd name="adj2" fmla="val 128721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9900"/>
                </a:solidFill>
                <a:latin typeface="Arial"/>
              </a:rPr>
              <a:t>Recomendações Gera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Implementação de um Sistema de Informações Energé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Estabelecimento de uma Unidade de Gestão Energé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Capacitação do Orgão - Programa de Trein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Elaboração de Plano Diretor de Gestão Energé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Contratação por Orgãos/L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Obrigad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aria Cecília Ama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ABESCO – Diretora Executiva     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Fone: 11-3549-45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camaral@abesco.com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ficienciaenergetica.org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A missão da Abes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pt-BR" sz="2800" spc="-1" strike="noStrike">
                <a:solidFill>
                  <a:srgbClr val="0033cc"/>
                </a:solidFill>
                <a:latin typeface="Arial"/>
              </a:rPr>
              <a:t>Promover a Indústria Brasileira de Eficiência Energética, elevando a competitividade da economia brasileira através do desenvolvimento sustentável”.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Webdings"/>
                <a:ea typeface="Webdings"/>
              </a:rPr>
              <a:t>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33cc"/>
                </a:solidFill>
                <a:latin typeface="Arial"/>
              </a:rPr>
              <a:t>Fundada em 1997, por 15 assoc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Webdings"/>
                <a:ea typeface="Webdings"/>
              </a:rPr>
              <a:t>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33cc"/>
                </a:solidFill>
                <a:latin typeface="Arial"/>
              </a:rPr>
              <a:t>Atualmente, é formada por mais de 50 associados e todo o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584360" cy="622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9280" y="981000"/>
            <a:ext cx="87854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252360" y="1413000"/>
            <a:ext cx="91440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2924280"/>
            <a:ext cx="2663640" cy="2448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3213000"/>
            <a:ext cx="2089440" cy="18716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ssoc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5877000"/>
            <a:ext cx="1729080" cy="6490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Gov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1125360"/>
            <a:ext cx="158400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Mer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2421000"/>
            <a:ext cx="1584360" cy="6490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ocie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76360" y="2421000"/>
            <a:ext cx="1584360" cy="6490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Impr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716280"/>
            <a:ext cx="1584360" cy="6494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Círc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acadê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4869000"/>
            <a:ext cx="1584360" cy="6490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Outras Associ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4797360"/>
            <a:ext cx="1584360" cy="6494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Indústrias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Equipa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348000" y="3068640"/>
            <a:ext cx="237636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9764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ssoci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4392000" y="1087200"/>
            <a:ext cx="287280" cy="2808360"/>
          </a:xfrm>
          <a:prstGeom prst="upArrow">
            <a:avLst>
              <a:gd name="adj1" fmla="val 36917"/>
              <a:gd name="adj2" fmla="val 477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7526000">
            <a:off x="5580720" y="1915200"/>
            <a:ext cx="431640" cy="433440"/>
          </a:xfrm>
          <a:prstGeom prst="upArrow">
            <a:avLst>
              <a:gd name="adj1" fmla="val 39222"/>
              <a:gd name="adj2" fmla="val 3163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4356000" y="5373720"/>
            <a:ext cx="432000" cy="433440"/>
          </a:xfrm>
          <a:prstGeom prst="upArrow">
            <a:avLst>
              <a:gd name="adj1" fmla="val 39222"/>
              <a:gd name="adj2" fmla="val 3160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3313800">
            <a:off x="3204720" y="1915200"/>
            <a:ext cx="431640" cy="433440"/>
          </a:xfrm>
          <a:prstGeom prst="upArrow">
            <a:avLst>
              <a:gd name="adj1" fmla="val 39222"/>
              <a:gd name="adj2" fmla="val 3163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9388200">
            <a:off x="3061800" y="3067920"/>
            <a:ext cx="285840" cy="2808360"/>
          </a:xfrm>
          <a:prstGeom prst="upArrow">
            <a:avLst>
              <a:gd name="adj1" fmla="val 36917"/>
              <a:gd name="adj2" fmla="val 480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2159600">
            <a:off x="5724000" y="2997360"/>
            <a:ext cx="351000" cy="2808000"/>
          </a:xfrm>
          <a:prstGeom prst="upArrow">
            <a:avLst>
              <a:gd name="adj1" fmla="val 36917"/>
              <a:gd name="adj2" fmla="val 391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rot="16200000">
            <a:off x="4390560" y="1303920"/>
            <a:ext cx="288720" cy="2808360"/>
          </a:xfrm>
          <a:prstGeom prst="upArrow">
            <a:avLst>
              <a:gd name="adj1" fmla="val 36917"/>
              <a:gd name="adj2" fmla="val 475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6000" y="2276640"/>
            <a:ext cx="432000" cy="576000"/>
          </a:xfrm>
          <a:prstGeom prst="upArrow">
            <a:avLst>
              <a:gd name="adj1" fmla="val 39222"/>
              <a:gd name="adj2" fmla="val 42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03640" y="2276640"/>
            <a:ext cx="289080" cy="3457440"/>
          </a:xfrm>
          <a:prstGeom prst="upArrow">
            <a:avLst>
              <a:gd name="adj1" fmla="val 36917"/>
              <a:gd name="adj2" fmla="val 584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00720" y="3716280"/>
            <a:ext cx="1584360" cy="6494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Merc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financei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2492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28526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7526000">
            <a:off x="3132720" y="2780280"/>
            <a:ext cx="431640" cy="433440"/>
          </a:xfrm>
          <a:prstGeom prst="upArrow">
            <a:avLst>
              <a:gd name="adj1" fmla="val 39222"/>
              <a:gd name="adj2" fmla="val 3163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3381600">
            <a:off x="5509440" y="2851920"/>
            <a:ext cx="432000" cy="433440"/>
          </a:xfrm>
          <a:prstGeom prst="upArrow">
            <a:avLst>
              <a:gd name="adj1" fmla="val 39222"/>
              <a:gd name="adj2" fmla="val 3160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3640" y="5805360"/>
            <a:ext cx="1729080" cy="648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Concessionárias</a:t>
            </a: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00000" y="4797360"/>
            <a:ext cx="7245360" cy="1727280"/>
          </a:xfrm>
          <a:prstGeom prst="rect">
            <a:avLst/>
          </a:prstGeom>
          <a:solidFill>
            <a:srgbClr val="a09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clusão:    Temos um dos maiores mercados potenciais do mundo nos setores de Eficiência Energética e de Energia Renováve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706840"/>
            <a:ext cx="2911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33960" y="2057400"/>
            <a:ext cx="3306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X  Maior EU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,6 x Maior Jap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16480" y="2590920"/>
            <a:ext cx="1336680" cy="990360"/>
          </a:xfrm>
          <a:custGeom>
            <a:avLst/>
            <a:gdLst>
              <a:gd name="textAreaLeft" fmla="*/ 167040 w 1336680"/>
              <a:gd name="textAreaRight" fmla="*/ 1169640 w 133668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692280"/>
            <a:ext cx="75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Intensidade Energética</a:t>
            </a:r>
            <a:br>
              <a:rPr sz="36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(Uso da energia por dólar de produto interno bruto 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5932440"/>
            <a:ext cx="28558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17080" y="-523584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07280" cy="4392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03640" y="5157720"/>
            <a:ext cx="38894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584360" cy="622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9280" y="981000"/>
            <a:ext cx="87854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484280"/>
            <a:ext cx="914400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8100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Webdings"/>
                <a:ea typeface="Webdings"/>
              </a:rPr>
              <a:t>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9933"/>
                </a:solidFill>
                <a:latin typeface="Arial"/>
              </a:rPr>
              <a:t>Oportunidades e Fatores Propulsores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0200" y="1700280"/>
            <a:ext cx="8713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Aumento de tarifas de energi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6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Possibilidade de uma nova crise energétic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6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Investimentos de recursos em Eficiência Energétic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6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Políticas publicas voltadas para energia e eficiênci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6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Pressão do mercado competitivo por redução de custo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6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Preocupação mundial com o desenvolvimento sustentável e o impacto ambient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6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PROES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584360" cy="622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981000"/>
            <a:ext cx="87854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84280"/>
            <a:ext cx="914400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052640"/>
            <a:ext cx="871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Aspectos Fortes das Esco’s Brasilei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413000"/>
            <a:ext cx="8713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700280"/>
            <a:ext cx="91440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Webdings"/>
                <a:ea typeface="Webdings"/>
              </a:rPr>
              <a:t>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istribuição geográfica pelo Brasil é compatível com as oportunidades de merca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ebdings"/>
                <a:ea typeface="Webdings"/>
              </a:rPr>
              <a:t>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xcelente qualificação técn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ebdings"/>
                <a:ea typeface="Webdings"/>
              </a:rPr>
              <a:t>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ocesso de decisão ágil. Geralmente o dono conduz a negoci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ebdings"/>
                <a:ea typeface="Webdings"/>
              </a:rPr>
              <a:t>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ividem o risco com o cliente, sendo responsáveis pelo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ebdings"/>
                <a:ea typeface="Webdings"/>
              </a:rPr>
              <a:t>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apacitação técnica e financeira para viabilização dos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ebdings"/>
                <a:ea typeface="Webdings"/>
              </a:rPr>
              <a:t>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specialização por know-how acumulado o que  facilita a segmentação do mercado.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oa integração entre as elas facilitando parce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1557360"/>
            <a:ext cx="730908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981000"/>
            <a:ext cx="7202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041480"/>
            <a:ext cx="1981080" cy="1523880"/>
          </a:xfrm>
          <a:prstGeom prst="ellipse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ort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1193760"/>
            <a:ext cx="5334120" cy="121932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vantamento e análise da situação 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álise da viabilidade técnico-econô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3124080"/>
            <a:ext cx="1981440" cy="1524240"/>
          </a:xfrm>
          <a:prstGeom prst="ellipse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Recur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32520" y="2666880"/>
            <a:ext cx="2882880" cy="2438640"/>
          </a:xfrm>
          <a:prstGeom prst="rect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Autofinanc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oncessioná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Fundos de invest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Fornec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cei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e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118120"/>
            <a:ext cx="1981080" cy="152388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mplementa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5270400"/>
            <a:ext cx="5334120" cy="12193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ecução dos projetos apro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ção&amp;Verificação dos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180324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3860640"/>
            <a:ext cx="37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588024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8323200">
            <a:off x="2437920" y="4508640"/>
            <a:ext cx="1295640" cy="7617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a50021"/>
              </a:gs>
              <a:gs pos="100000">
                <a:srgbClr val="ffffff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148600">
            <a:off x="2472840" y="2522160"/>
            <a:ext cx="1295640" cy="76212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a50021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0360" y="2708280"/>
            <a:ext cx="71640" cy="2305080"/>
          </a:xfrm>
          <a:custGeom>
            <a:avLst/>
            <a:gdLst>
              <a:gd name="textAreaLeft" fmla="*/ 45720 w 71640"/>
              <a:gd name="textAreaRight" fmla="*/ 72000 w 7164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-90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SCO - Abordagem Come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981000"/>
            <a:ext cx="87854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20:45:24Z</dcterms:created>
  <dc:creator>Tuca</dc:creator>
  <dc:description/>
  <dc:language>en-US</dc:language>
  <cp:lastModifiedBy>Prodasen</cp:lastModifiedBy>
  <dcterms:modified xsi:type="dcterms:W3CDTF">2007-11-08T16:36:45Z</dcterms:modified>
  <cp:revision>14</cp:revision>
  <dc:subject/>
  <dc:title>Slide 1</dc:title>
</cp:coreProperties>
</file>