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89120"/>
            <a:ext cx="5029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854920"/>
            <a:ext cx="2971800" cy="4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5840" y="8854920"/>
            <a:ext cx="2971800" cy="4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AF85-C9D0-4EE0-9CCF-13FECD4E87B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885840" y="8854920"/>
            <a:ext cx="2971800" cy="4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CE809-DFC7-4730-908A-F32D254E7AE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-360" y="8854920"/>
            <a:ext cx="2971800" cy="4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-36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88584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647720" y="1077840"/>
            <a:ext cx="3562560" cy="267192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409640"/>
            <a:ext cx="5029200" cy="41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6328-045A-482B-8F8D-57DD38F76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9663-D433-45FD-B49D-831FD9FFA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B11E-20CC-4ACD-83A4-C51B80A96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1270-F9F4-4B6F-AF98-5282EF898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7A8D-FA13-4448-AB27-D7FCA148D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78F0-4A8B-4AD4-9202-A3FDC092B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711D-3B8D-43A9-9FE3-C812928F9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2975-AD97-4F0F-8B1E-82DF0D97E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9529-A373-4FE3-9401-26440CD86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AB4E-7BD0-4967-9ABE-D5D8F63A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1BC2-583F-4633-A0BF-DCC16168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E9C2-6539-45CF-B400-F288C431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045AE-DA51-4AF7-BF57-AEC1A5E0626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0" y="0"/>
          <a:ext cx="9144000" cy="686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6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1584360" cy="62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mcamaral@abesco.com.br" TargetMode="External"/><Relationship Id="rId2" Type="http://schemas.openxmlformats.org/officeDocument/2006/relationships/hyperlink" Target="http://www.eficienciaenergetica.org.br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pt-BR" sz="3200" spc="-1" strike="noStrike">
                <a:solidFill>
                  <a:srgbClr val="008000"/>
                </a:solidFill>
                <a:latin typeface="Arial"/>
              </a:rPr>
              <a:t>CONTRATOS DE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8000"/>
                </a:solidFill>
                <a:latin typeface="Arial"/>
              </a:rPr>
              <a:t>                </a:t>
            </a:r>
            <a:r>
              <a:rPr b="0" lang="pt-BR" sz="3200" spc="-1" strike="noStrike">
                <a:solidFill>
                  <a:srgbClr val="008000"/>
                </a:solidFill>
                <a:latin typeface="Arial"/>
              </a:rPr>
              <a:t>Problemas &amp; Soluç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8000"/>
                </a:solidFill>
                <a:latin typeface="Arial"/>
              </a:rPr>
              <a:t>Maria Cecília Ama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pt-BR" sz="32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pt-BR" sz="32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pt-BR" sz="32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8000"/>
                </a:solidFill>
                <a:latin typeface="Arial"/>
              </a:rPr>
              <a:t>ABESCO - Diretora Execu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32360" y="4653000"/>
            <a:ext cx="280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172200" y="5013360"/>
            <a:ext cx="200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ecomendações Gera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94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mplementação de um Sistema de Informações Energéti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abelecimento de uma Unidade de Gestão Energétic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pacitação do Orgão - Programa de Treinam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laboração de Plano Diretor de Gestão Energét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tratação por Orgãos/L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00"/>
                </a:solidFill>
                <a:latin typeface="Arial"/>
              </a:rPr>
              <a:t>Obrigada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6600"/>
                </a:solidFill>
                <a:latin typeface="Arial"/>
              </a:rPr>
              <a:t>Maria Cecília Ama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6600"/>
                </a:solidFill>
                <a:latin typeface="Arial"/>
              </a:rPr>
              <a:t>ABESCO – Diretora Execu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6600"/>
                </a:solidFill>
                <a:latin typeface="Arial"/>
              </a:rPr>
              <a:t>Fone: 11-3549-45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camaral@abesco.com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ficienciaenergetica.org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8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gnitude do consumo de energia elétrica do setor (4%  do mercado brasileiro) e grande replicabilidade das açõ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8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rande potencial p/ eficientização frente às tecnologias existentes e à fragilidade dos sistemas administrativos p/ controle do consumo de utilidades e educação quanto ao seu uso ra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8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aixo nível de investimento p/ o potencial de retorno via economia de energia (geralmente entre 20% a 40%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8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feito demonstração para demais setores da econom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2600" y="1066680"/>
            <a:ext cx="668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Arial"/>
              </a:rPr>
              <a:t>PORQUE ATUAR NO SETOR PÚBLICO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11280" y="12679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312"/>
              </a:spcBef>
              <a:buClr>
                <a:srgbClr val="008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  <a:ea typeface="Arial"/>
              </a:rPr>
              <a:t>Melhoria da imagem do Governo, com a ação de combate ao desperdício de energia elétrica, constituindo-se num exemplo e numa referência para a sociedad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312"/>
              </a:spcBef>
              <a:buClr>
                <a:srgbClr val="008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  <a:ea typeface="Arial"/>
              </a:rPr>
              <a:t>Melhoria para os usuários das instalações, com a normatização das condições de iluminamento e climatizaçã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312"/>
              </a:spcBef>
              <a:buClr>
                <a:srgbClr val="008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  <a:ea typeface="Arial"/>
              </a:rPr>
              <a:t>Geração de empregos, com a movimentação de todo um setor da economia ligado à prestação de serviços e a equipamentos eficient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312"/>
              </a:spcBef>
              <a:buClr>
                <a:srgbClr val="008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  <a:ea typeface="Arial"/>
              </a:rPr>
              <a:t>Redução do nível de inadimplência do setor com a otimização dos seus custos com energi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312"/>
              </a:spcBef>
              <a:buClr>
                <a:srgbClr val="008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  <a:ea typeface="Arial"/>
              </a:rPr>
              <a:t>Postergação de investimentos do setor elétrico, com a redução da necessidade de expansão do sistema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312"/>
              </a:spcBef>
              <a:buClr>
                <a:srgbClr val="008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  <a:ea typeface="Arial"/>
              </a:rPr>
              <a:t>Redução dos impactos no meio ambiente decorrentes da expansão da oferta de energia elétric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0840" y="792000"/>
            <a:ext cx="6555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Arial"/>
              </a:rPr>
              <a:t>BENEFÍCIOS DA ATUAÇÃO NO SETO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795840" y="2751120"/>
            <a:ext cx="1460520" cy="1555920"/>
          </a:xfrm>
          <a:prstGeom prst="ellipse">
            <a:avLst/>
          </a:prstGeom>
          <a:gradFill rotWithShape="0">
            <a:gsLst>
              <a:gs pos="0">
                <a:srgbClr val="cedafd"/>
              </a:gs>
              <a:gs pos="100000">
                <a:srgbClr val="114ff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0a2f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54520" y="3124080"/>
            <a:ext cx="1479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81d58"/>
                </a:solidFill>
                <a:latin typeface="Arial"/>
              </a:rPr>
              <a:t>Proble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81d58"/>
                </a:solidFill>
                <a:latin typeface="Arial"/>
              </a:rPr>
              <a:t>Lei 8.666/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4573800" y="779400"/>
            <a:ext cx="2543040" cy="1689840"/>
            <a:chOff x="4573800" y="779400"/>
            <a:chExt cx="2543040" cy="1689840"/>
          </a:xfrm>
        </p:grpSpPr>
        <p:sp>
          <p:nvSpPr>
            <p:cNvPr id="61" name=""/>
            <p:cNvSpPr/>
            <p:nvPr/>
          </p:nvSpPr>
          <p:spPr>
            <a:xfrm>
              <a:off x="4648320" y="779400"/>
              <a:ext cx="2468520" cy="877320"/>
            </a:xfrm>
            <a:prstGeom prst="ellipse">
              <a:avLst/>
            </a:prstGeom>
            <a:gradFill rotWithShape="0">
              <a:gsLst>
                <a:gs pos="0">
                  <a:srgbClr val="fdeacb"/>
                </a:gs>
                <a:gs pos="100000">
                  <a:srgbClr val="fe9b03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7880000">
              <a:off x="4496400" y="1822680"/>
              <a:ext cx="877320" cy="352440"/>
            </a:xfrm>
            <a:prstGeom prst="rightArrow">
              <a:avLst>
                <a:gd name="adj1" fmla="val 50000"/>
                <a:gd name="adj2" fmla="val 124521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036040" y="942840"/>
              <a:ext cx="17730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600" spc="-1" strike="noStrike">
                  <a:solidFill>
                    <a:srgbClr val="081d58"/>
                  </a:solidFill>
                  <a:latin typeface="Arial"/>
                </a:rPr>
                <a:t>Necessidade d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600" spc="-1" strike="noStrike">
                  <a:solidFill>
                    <a:srgbClr val="081d58"/>
                  </a:solidFill>
                  <a:latin typeface="Arial"/>
                </a:rPr>
                <a:t>Projeto Bási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5334120" y="3048120"/>
            <a:ext cx="3504600" cy="952200"/>
            <a:chOff x="5334120" y="3048120"/>
            <a:chExt cx="3504600" cy="952200"/>
          </a:xfrm>
        </p:grpSpPr>
        <p:sp>
          <p:nvSpPr>
            <p:cNvPr id="65" name=""/>
            <p:cNvSpPr/>
            <p:nvPr/>
          </p:nvSpPr>
          <p:spPr>
            <a:xfrm>
              <a:off x="6306480" y="3048120"/>
              <a:ext cx="2532240" cy="952200"/>
            </a:xfrm>
            <a:prstGeom prst="ellipse">
              <a:avLst/>
            </a:prstGeom>
            <a:gradFill rotWithShape="0">
              <a:gsLst>
                <a:gs pos="0">
                  <a:srgbClr val="fdeacb"/>
                </a:gs>
                <a:gs pos="100000">
                  <a:srgbClr val="fe9b03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4120" y="3369960"/>
              <a:ext cx="885240" cy="388800"/>
            </a:xfrm>
            <a:prstGeom prst="rightArrow">
              <a:avLst>
                <a:gd name="adj1" fmla="val 50000"/>
                <a:gd name="adj2" fmla="val 1138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61080" y="3306240"/>
              <a:ext cx="19054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600" spc="-1" strike="noStrike">
                  <a:solidFill>
                    <a:srgbClr val="081d58"/>
                  </a:solidFill>
                  <a:latin typeface="Arial"/>
                </a:rPr>
                <a:t>Quem projeta nã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600" spc="-1" strike="noStrike">
                  <a:solidFill>
                    <a:srgbClr val="081d58"/>
                  </a:solidFill>
                  <a:latin typeface="Arial"/>
                </a:rPr>
                <a:t>execu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070240" y="4123800"/>
            <a:ext cx="3452760" cy="1021320"/>
            <a:chOff x="5070240" y="4123800"/>
            <a:chExt cx="3452760" cy="1021320"/>
          </a:xfrm>
        </p:grpSpPr>
        <p:sp>
          <p:nvSpPr>
            <p:cNvPr id="69" name=""/>
            <p:cNvSpPr/>
            <p:nvPr/>
          </p:nvSpPr>
          <p:spPr>
            <a:xfrm>
              <a:off x="6054120" y="4267080"/>
              <a:ext cx="2468880" cy="878040"/>
            </a:xfrm>
            <a:prstGeom prst="ellipse">
              <a:avLst/>
            </a:prstGeom>
            <a:gradFill rotWithShape="0">
              <a:gsLst>
                <a:gs pos="0">
                  <a:srgbClr val="fdeacb"/>
                </a:gs>
                <a:gs pos="100000">
                  <a:srgbClr val="fe9b03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5070240" y="4123800"/>
              <a:ext cx="3075120" cy="889560"/>
              <a:chOff x="5070240" y="4123800"/>
              <a:chExt cx="3075120" cy="889560"/>
            </a:xfrm>
          </p:grpSpPr>
          <p:sp>
            <p:nvSpPr>
              <p:cNvPr id="71" name=""/>
              <p:cNvSpPr/>
              <p:nvPr/>
            </p:nvSpPr>
            <p:spPr>
              <a:xfrm rot="12300000">
                <a:off x="5105160" y="4289400"/>
                <a:ext cx="863640" cy="358200"/>
              </a:xfrm>
              <a:prstGeom prst="leftArrow">
                <a:avLst>
                  <a:gd name="adj1" fmla="val 50000"/>
                  <a:gd name="adj2" fmla="val 120497"/>
                </a:avLst>
              </a:prstGeom>
              <a:solidFill>
                <a:srgbClr val="fafd00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519960" y="4434120"/>
                <a:ext cx="162540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pt-BR" sz="1600" spc="-1" strike="noStrike">
                    <a:solidFill>
                      <a:srgbClr val="081d58"/>
                    </a:solidFill>
                    <a:latin typeface="Arial"/>
                  </a:rPr>
                  <a:t>Altos cust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pt-BR" sz="1600" spc="-1" strike="noStrike">
                    <a:solidFill>
                      <a:srgbClr val="081d58"/>
                    </a:solidFill>
                    <a:latin typeface="Arial"/>
                  </a:rPr>
                  <a:t> </a:t>
                </a:r>
                <a:r>
                  <a:rPr b="1" lang="pt-BR" sz="1600" spc="-1" strike="noStrike">
                    <a:solidFill>
                      <a:srgbClr val="081d58"/>
                    </a:solidFill>
                    <a:latin typeface="Arial"/>
                  </a:rPr>
                  <a:t>das proposta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" name=""/>
          <p:cNvGrpSpPr/>
          <p:nvPr/>
        </p:nvGrpSpPr>
        <p:grpSpPr>
          <a:xfrm>
            <a:off x="4539240" y="4463640"/>
            <a:ext cx="2633040" cy="1692720"/>
            <a:chOff x="4539240" y="4463640"/>
            <a:chExt cx="2633040" cy="1692720"/>
          </a:xfrm>
        </p:grpSpPr>
        <p:sp>
          <p:nvSpPr>
            <p:cNvPr id="74" name=""/>
            <p:cNvSpPr/>
            <p:nvPr/>
          </p:nvSpPr>
          <p:spPr>
            <a:xfrm>
              <a:off x="4597560" y="5280120"/>
              <a:ext cx="2471400" cy="876240"/>
            </a:xfrm>
            <a:prstGeom prst="ellipse">
              <a:avLst/>
            </a:prstGeom>
            <a:gradFill rotWithShape="0">
              <a:gsLst>
                <a:gs pos="0">
                  <a:srgbClr val="fdeacb"/>
                </a:gs>
                <a:gs pos="100000">
                  <a:srgbClr val="fe9b03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rot="14520000">
              <a:off x="4462920" y="4756680"/>
              <a:ext cx="876600" cy="354240"/>
            </a:xfrm>
            <a:prstGeom prst="leftArrow">
              <a:avLst>
                <a:gd name="adj1" fmla="val 50000"/>
                <a:gd name="adj2" fmla="val 123672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72000" y="5334120"/>
              <a:ext cx="2600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400" spc="-1" strike="noStrike">
                  <a:solidFill>
                    <a:srgbClr val="081d58"/>
                  </a:solidFill>
                  <a:latin typeface="Arial"/>
                </a:rPr>
                <a:t> </a:t>
              </a:r>
              <a:r>
                <a:rPr b="1" lang="pt-BR" sz="1600" spc="-1" strike="noStrike">
                  <a:solidFill>
                    <a:srgbClr val="081d58"/>
                  </a:solidFill>
                  <a:latin typeface="Arial"/>
                </a:rPr>
                <a:t>Orçamento d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600" spc="-1" strike="noStrike">
                  <a:solidFill>
                    <a:srgbClr val="081d58"/>
                  </a:solidFill>
                  <a:latin typeface="Arial"/>
                </a:rPr>
                <a:t>Custeio x Investimen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1641240" y="685800"/>
            <a:ext cx="2786400" cy="1827000"/>
            <a:chOff x="1641240" y="685800"/>
            <a:chExt cx="2786400" cy="1827000"/>
          </a:xfrm>
        </p:grpSpPr>
        <p:sp>
          <p:nvSpPr>
            <p:cNvPr id="78" name=""/>
            <p:cNvSpPr/>
            <p:nvPr/>
          </p:nvSpPr>
          <p:spPr>
            <a:xfrm>
              <a:off x="1749600" y="685800"/>
              <a:ext cx="2517480" cy="1014480"/>
            </a:xfrm>
            <a:prstGeom prst="ellipse">
              <a:avLst/>
            </a:prstGeom>
            <a:gradFill rotWithShape="0">
              <a:gsLst>
                <a:gs pos="0">
                  <a:srgbClr val="fdeacb"/>
                </a:gs>
                <a:gs pos="100000">
                  <a:srgbClr val="fe9b03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3720000">
              <a:off x="3532680" y="1865520"/>
              <a:ext cx="876240" cy="354240"/>
            </a:xfrm>
            <a:prstGeom prst="leftArrow">
              <a:avLst>
                <a:gd name="adj1" fmla="val 50000"/>
                <a:gd name="adj2" fmla="val 123621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641240" y="838080"/>
              <a:ext cx="2786400" cy="55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600" spc="-1" strike="noStrike">
                  <a:solidFill>
                    <a:srgbClr val="081d58"/>
                  </a:solidFill>
                  <a:latin typeface="Arial"/>
                </a:rPr>
                <a:t>Critérios de medição 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600" spc="-1" strike="noStrike">
                  <a:solidFill>
                    <a:srgbClr val="081d58"/>
                  </a:solidFill>
                  <a:latin typeface="Arial"/>
                </a:rPr>
                <a:t>Verificação das economi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444600" y="1873080"/>
            <a:ext cx="3379680" cy="946080"/>
            <a:chOff x="444600" y="1873080"/>
            <a:chExt cx="3379680" cy="946080"/>
          </a:xfrm>
        </p:grpSpPr>
        <p:sp>
          <p:nvSpPr>
            <p:cNvPr id="82" name=""/>
            <p:cNvSpPr/>
            <p:nvPr/>
          </p:nvSpPr>
          <p:spPr>
            <a:xfrm>
              <a:off x="444600" y="1873080"/>
              <a:ext cx="2468880" cy="878040"/>
            </a:xfrm>
            <a:prstGeom prst="ellipse">
              <a:avLst/>
            </a:prstGeom>
            <a:gradFill rotWithShape="0">
              <a:gsLst>
                <a:gs pos="0">
                  <a:srgbClr val="fdeacb"/>
                </a:gs>
                <a:gs pos="100000">
                  <a:srgbClr val="fe9b03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500000">
              <a:off x="2925720" y="2295000"/>
              <a:ext cx="863280" cy="358560"/>
            </a:xfrm>
            <a:prstGeom prst="leftArrow">
              <a:avLst>
                <a:gd name="adj1" fmla="val 50000"/>
                <a:gd name="adj2" fmla="val 120326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56920" y="1960920"/>
              <a:ext cx="23367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600" spc="-1" strike="noStrike">
                  <a:solidFill>
                    <a:srgbClr val="081d58"/>
                  </a:solidFill>
                  <a:latin typeface="Arial"/>
                </a:rPr>
                <a:t>Critérios de avaliação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600" spc="-1" strike="noStrike">
                  <a:solidFill>
                    <a:srgbClr val="081d58"/>
                  </a:solidFill>
                  <a:latin typeface="Arial"/>
                </a:rPr>
                <a:t>das propost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0" y="2971800"/>
            <a:ext cx="3428640" cy="870120"/>
            <a:chOff x="0" y="2971800"/>
            <a:chExt cx="3428640" cy="870120"/>
          </a:xfrm>
        </p:grpSpPr>
        <p:sp>
          <p:nvSpPr>
            <p:cNvPr id="86" name=""/>
            <p:cNvSpPr/>
            <p:nvPr/>
          </p:nvSpPr>
          <p:spPr>
            <a:xfrm>
              <a:off x="0" y="2971800"/>
              <a:ext cx="2476800" cy="818280"/>
            </a:xfrm>
            <a:prstGeom prst="ellipse">
              <a:avLst/>
            </a:prstGeom>
            <a:gradFill rotWithShape="0">
              <a:gsLst>
                <a:gs pos="0">
                  <a:srgbClr val="fdeacb"/>
                </a:gs>
                <a:gs pos="100000">
                  <a:srgbClr val="fe9b03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562480" y="3248280"/>
              <a:ext cx="866160" cy="334080"/>
            </a:xfrm>
            <a:prstGeom prst="leftArrow">
              <a:avLst>
                <a:gd name="adj1" fmla="val 50000"/>
                <a:gd name="adj2" fmla="val 129573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16520" y="3262680"/>
              <a:ext cx="1727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600" spc="-1" strike="noStrike">
                  <a:solidFill>
                    <a:srgbClr val="081d58"/>
                  </a:solidFill>
                  <a:latin typeface="Arial"/>
                </a:rPr>
                <a:t>Fragilidade da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600" spc="-1" strike="noStrike">
                  <a:solidFill>
                    <a:srgbClr val="081d58"/>
                  </a:solidFill>
                  <a:latin typeface="Arial"/>
                </a:rPr>
                <a:t>garanti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338040" y="4102200"/>
            <a:ext cx="3559320" cy="1020600"/>
            <a:chOff x="338040" y="4102200"/>
            <a:chExt cx="3559320" cy="1020600"/>
          </a:xfrm>
        </p:grpSpPr>
        <p:sp>
          <p:nvSpPr>
            <p:cNvPr id="90" name=""/>
            <p:cNvSpPr/>
            <p:nvPr/>
          </p:nvSpPr>
          <p:spPr>
            <a:xfrm>
              <a:off x="443880" y="4245120"/>
              <a:ext cx="2469600" cy="877680"/>
            </a:xfrm>
            <a:prstGeom prst="ellipse">
              <a:avLst/>
            </a:prstGeom>
            <a:gradFill rotWithShape="0">
              <a:gsLst>
                <a:gs pos="0">
                  <a:srgbClr val="fdeacb"/>
                </a:gs>
                <a:gs pos="100000">
                  <a:srgbClr val="fe9b03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9300000">
              <a:off x="2998800" y="4267800"/>
              <a:ext cx="863280" cy="358200"/>
            </a:xfrm>
            <a:prstGeom prst="rightArrow">
              <a:avLst>
                <a:gd name="adj1" fmla="val 50000"/>
                <a:gd name="adj2" fmla="val 120558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38040" y="4408920"/>
              <a:ext cx="27727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600" spc="-1" strike="noStrike">
                  <a:solidFill>
                    <a:srgbClr val="081d58"/>
                  </a:solidFill>
                  <a:latin typeface="Arial"/>
                </a:rPr>
                <a:t>Prazos contratuais 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600" spc="-1" strike="noStrike">
                  <a:solidFill>
                    <a:srgbClr val="081d58"/>
                  </a:solidFill>
                  <a:latin typeface="Arial"/>
                </a:rPr>
                <a:t>Continuidade dos serviç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1758960" y="4470480"/>
            <a:ext cx="2579760" cy="1688760"/>
            <a:chOff x="1758960" y="4470480"/>
            <a:chExt cx="2579760" cy="1688760"/>
          </a:xfrm>
        </p:grpSpPr>
        <p:sp>
          <p:nvSpPr>
            <p:cNvPr id="94" name=""/>
            <p:cNvSpPr/>
            <p:nvPr/>
          </p:nvSpPr>
          <p:spPr>
            <a:xfrm>
              <a:off x="1758960" y="5283000"/>
              <a:ext cx="2468520" cy="876240"/>
            </a:xfrm>
            <a:prstGeom prst="ellipse">
              <a:avLst/>
            </a:prstGeom>
            <a:gradFill rotWithShape="0">
              <a:gsLst>
                <a:gs pos="0">
                  <a:srgbClr val="fdeacb"/>
                </a:gs>
                <a:gs pos="100000">
                  <a:srgbClr val="fe9b03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rot="7080000">
              <a:off x="3538800" y="4763880"/>
              <a:ext cx="876600" cy="352440"/>
            </a:xfrm>
            <a:prstGeom prst="rightArrow">
              <a:avLst>
                <a:gd name="adj1" fmla="val 50000"/>
                <a:gd name="adj2" fmla="val 124419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71640" y="5445000"/>
              <a:ext cx="23248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600" spc="-1" strike="noStrike">
                  <a:solidFill>
                    <a:srgbClr val="081d58"/>
                  </a:solidFill>
                  <a:latin typeface="Arial"/>
                </a:rPr>
                <a:t>Imprevisibilidade 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600" spc="-1" strike="noStrike">
                  <a:solidFill>
                    <a:srgbClr val="081d58"/>
                  </a:solidFill>
                  <a:latin typeface="Arial"/>
                </a:rPr>
                <a:t>Economias e Receit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5074920" y="1873080"/>
            <a:ext cx="3459240" cy="956880"/>
            <a:chOff x="5074920" y="1873080"/>
            <a:chExt cx="3459240" cy="956880"/>
          </a:xfrm>
        </p:grpSpPr>
        <p:sp>
          <p:nvSpPr>
            <p:cNvPr id="98" name=""/>
            <p:cNvSpPr/>
            <p:nvPr/>
          </p:nvSpPr>
          <p:spPr>
            <a:xfrm>
              <a:off x="6065280" y="1873080"/>
              <a:ext cx="2468880" cy="878040"/>
            </a:xfrm>
            <a:prstGeom prst="ellipse">
              <a:avLst/>
            </a:prstGeom>
            <a:gradFill rotWithShape="0">
              <a:gsLst>
                <a:gs pos="0">
                  <a:srgbClr val="fdeacb"/>
                </a:gs>
                <a:gs pos="100000">
                  <a:srgbClr val="fe9b03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rot="20100000">
              <a:off x="5116320" y="2294640"/>
              <a:ext cx="863640" cy="358560"/>
            </a:xfrm>
            <a:prstGeom prst="rightArrow">
              <a:avLst>
                <a:gd name="adj1" fmla="val 50000"/>
                <a:gd name="adj2" fmla="val 120487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444000" y="2036520"/>
              <a:ext cx="19407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600" spc="-1" strike="noStrike">
                  <a:solidFill>
                    <a:srgbClr val="081d58"/>
                  </a:solidFill>
                  <a:latin typeface="Arial"/>
                </a:rPr>
                <a:t>Determinação 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600" spc="-1" strike="noStrike">
                  <a:solidFill>
                    <a:srgbClr val="081d58"/>
                  </a:solidFill>
                  <a:latin typeface="Arial"/>
                </a:rPr>
                <a:t>Quantitativ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20100000">
              <a:off x="5110200" y="2305440"/>
              <a:ext cx="863640" cy="358560"/>
            </a:xfrm>
            <a:prstGeom prst="rightArrow">
              <a:avLst>
                <a:gd name="adj1" fmla="val 50000"/>
                <a:gd name="adj2" fmla="val 120487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52280" y="2895480"/>
            <a:ext cx="2819520" cy="11430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ae00"/>
              </a:gs>
            </a:gsLst>
            <a:lin ang="81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1371600"/>
            <a:ext cx="2698920" cy="10206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ae00"/>
              </a:gs>
            </a:gsLst>
            <a:lin ang="81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62520" y="1500120"/>
            <a:ext cx="2467080" cy="8622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ae00"/>
              </a:gs>
            </a:gsLst>
            <a:lin ang="81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497400" y="5234040"/>
            <a:ext cx="2466720" cy="8618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ae00"/>
              </a:gs>
            </a:gsLst>
            <a:lin ang="81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486480" y="3059280"/>
            <a:ext cx="2467080" cy="86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ae00"/>
              </a:gs>
            </a:gsLst>
            <a:lin ang="81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25400" y="4359240"/>
            <a:ext cx="2467080" cy="8622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ae00"/>
              </a:gs>
            </a:gsLst>
            <a:lin ang="81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80040" y="4383000"/>
            <a:ext cx="2467080" cy="8622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ae00"/>
              </a:gs>
            </a:gsLst>
            <a:lin ang="81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38960" y="3351240"/>
            <a:ext cx="861840" cy="352440"/>
          </a:xfrm>
          <a:prstGeom prst="rightArrow">
            <a:avLst>
              <a:gd name="adj1" fmla="val 50000"/>
              <a:gd name="adj2" fmla="val 122279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rot="1500000">
            <a:off x="3197160" y="2418840"/>
            <a:ext cx="863640" cy="352440"/>
          </a:xfrm>
          <a:prstGeom prst="rightArrow">
            <a:avLst>
              <a:gd name="adj1" fmla="val 50000"/>
              <a:gd name="adj2" fmla="val 122534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20100000">
            <a:off x="5246640" y="2351160"/>
            <a:ext cx="863640" cy="352440"/>
          </a:xfrm>
          <a:prstGeom prst="rightArrow">
            <a:avLst>
              <a:gd name="adj1" fmla="val 50000"/>
              <a:gd name="adj2" fmla="val 122534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rot="16140000">
            <a:off x="4227120" y="4593240"/>
            <a:ext cx="861840" cy="352440"/>
          </a:xfrm>
          <a:prstGeom prst="rightArrow">
            <a:avLst>
              <a:gd name="adj1" fmla="val 50000"/>
              <a:gd name="adj2" fmla="val 122279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9300000">
            <a:off x="3131280" y="4174560"/>
            <a:ext cx="863640" cy="352440"/>
          </a:xfrm>
          <a:prstGeom prst="rightArrow">
            <a:avLst>
              <a:gd name="adj1" fmla="val 50000"/>
              <a:gd name="adj2" fmla="val 122534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rot="12300000">
            <a:off x="5245920" y="4174920"/>
            <a:ext cx="863640" cy="352440"/>
          </a:xfrm>
          <a:prstGeom prst="rightArrow">
            <a:avLst>
              <a:gd name="adj1" fmla="val 50000"/>
              <a:gd name="adj2" fmla="val 122534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29040" y="2689200"/>
            <a:ext cx="1457280" cy="153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114ff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0a2f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53520" y="2952720"/>
            <a:ext cx="14875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81d58"/>
                </a:solidFill>
                <a:latin typeface="Arial"/>
              </a:rPr>
              <a:t>Soluçõ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81d58"/>
                </a:solidFill>
                <a:latin typeface="Arial"/>
              </a:rPr>
              <a:t>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81d58"/>
                </a:solidFill>
                <a:latin typeface="Arial"/>
              </a:rPr>
              <a:t>Alternati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905800" y="1679400"/>
            <a:ext cx="21520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81d58"/>
                </a:solidFill>
                <a:latin typeface="Arial"/>
              </a:rPr>
              <a:t>Contratos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81d58"/>
                </a:solidFill>
                <a:latin typeface="Arial"/>
              </a:rPr>
              <a:t>Manutenção/Uni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22600" y="3276720"/>
            <a:ext cx="1274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81d58"/>
                </a:solidFill>
                <a:latin typeface="Arial"/>
              </a:rPr>
              <a:t>Venda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81d58"/>
                </a:solidFill>
                <a:latin typeface="Arial"/>
              </a:rPr>
              <a:t>Util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304320" y="4419720"/>
            <a:ext cx="19202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81d58"/>
                </a:solidFill>
                <a:latin typeface="Arial"/>
              </a:rPr>
              <a:t>Licitação p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81d58"/>
                </a:solidFill>
                <a:latin typeface="Arial"/>
              </a:rPr>
              <a:t>Técnica e 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79560" y="4432320"/>
            <a:ext cx="1832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81d58"/>
                </a:solidFill>
                <a:latin typeface="Arial"/>
              </a:rPr>
              <a:t>Premiação p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81d58"/>
                </a:solidFill>
                <a:latin typeface="Arial"/>
              </a:rPr>
              <a:t>Result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20040" y="5452920"/>
            <a:ext cx="1580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81d58"/>
                </a:solidFill>
                <a:latin typeface="Arial"/>
              </a:rPr>
              <a:t>Contr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81d58"/>
                </a:solidFill>
                <a:latin typeface="Arial"/>
              </a:rPr>
              <a:t>Continu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17960" y="1600200"/>
            <a:ext cx="17694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081d58"/>
                </a:solidFill>
                <a:latin typeface="Arial"/>
              </a:rPr>
              <a:t>Licitação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081d58"/>
                </a:solidFill>
                <a:latin typeface="Arial"/>
              </a:rPr>
              <a:t>Projeto Básico 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081d58"/>
                </a:solidFill>
                <a:latin typeface="Arial"/>
              </a:rPr>
              <a:t>M&amp;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80600" y="3121200"/>
            <a:ext cx="3368880" cy="637560"/>
            <a:chOff x="480600" y="3121200"/>
            <a:chExt cx="3368880" cy="637560"/>
          </a:xfrm>
        </p:grpSpPr>
        <p:sp>
          <p:nvSpPr>
            <p:cNvPr id="124" name=""/>
            <p:cNvSpPr/>
            <p:nvPr/>
          </p:nvSpPr>
          <p:spPr>
            <a:xfrm flipH="1">
              <a:off x="2985480" y="3351240"/>
              <a:ext cx="863640" cy="352440"/>
            </a:xfrm>
            <a:prstGeom prst="rightArrow">
              <a:avLst>
                <a:gd name="adj1" fmla="val 50000"/>
                <a:gd name="adj2" fmla="val 122534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0600" y="3121200"/>
              <a:ext cx="23410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800" spc="-1" strike="noStrike">
                  <a:solidFill>
                    <a:srgbClr val="081d58"/>
                  </a:solidFill>
                  <a:latin typeface="Arial"/>
                </a:rPr>
                <a:t>Melhor Estrutura 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800" spc="-1" strike="noStrike">
                  <a:solidFill>
                    <a:srgbClr val="081d58"/>
                  </a:solidFill>
                  <a:latin typeface="Arial"/>
                </a:rPr>
                <a:t>Garanti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276720" y="609480"/>
            <a:ext cx="2743200" cy="1067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ae00"/>
              </a:gs>
            </a:gsLst>
            <a:lin ang="81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570120" y="857160"/>
            <a:ext cx="21625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81d58"/>
                </a:solidFill>
                <a:latin typeface="Arial"/>
              </a:rPr>
              <a:t>Contratos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81d58"/>
                </a:solidFill>
                <a:latin typeface="Arial"/>
              </a:rPr>
              <a:t>Manutenção G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6140000">
            <a:off x="4156200" y="1940040"/>
            <a:ext cx="861840" cy="334800"/>
          </a:xfrm>
          <a:prstGeom prst="rightArrow">
            <a:avLst>
              <a:gd name="adj1" fmla="val 50000"/>
              <a:gd name="adj2" fmla="val 128721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ontratos de Manutenção Gera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120" y="20574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stemas de Ilumin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stemas de Ar Condicion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stema de Aquecimento de Água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stemas de Ar Comprim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stemas de Geração de Emergênc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stemas de Abastecimento de Águ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tos de compra de ener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ontratos de Manutenção/unidad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0574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$/luminá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$/fun co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$/ponto de utilização A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$/kW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a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$/kWh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r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$/ponto de utilização A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$/unidade gerenci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Venda de Utilidad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20574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x / Região (Iluminação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 / mês (ar condicionado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mês (água quent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mês (água fria)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W disponível (Geração de Emergênci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Wh gerado (Geração de Emergênci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ritérios Gerais de Aferição dos Serviço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2209680"/>
            <a:ext cx="75438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8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Monitoramento Amostral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8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8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Monitoramento Contínuo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8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8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esquisa de satisfação de Usuário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8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8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Redução dos custos das utilidad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rodasen</cp:lastModifiedBy>
  <dcterms:modified xsi:type="dcterms:W3CDTF">2007-11-08T16:36:56Z</dcterms:modified>
  <cp:revision>177</cp:revision>
  <dc:subject/>
  <dc:title>PowerPoint Presentation</dc:title>
</cp:coreProperties>
</file>